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9F61-B085-4D36-B914-D778D3F0F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432576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B91B-3131-41C8-9CE9-CE8DC467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1140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820E-5D7E-4844-B78A-E9BA0F5BC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3000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0316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3000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0316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F8FE-B0D7-4EA4-B8C8-F80F054E2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7EB5-5A06-4B35-B475-C2C47DA26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7105-5BE5-4503-A8A9-27F28E14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91B7-0966-4326-B4F8-5D163098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DD1D-D6A0-429D-B848-8533C137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FB84-7AC0-4B06-BC37-D42AB455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18960" y="609480"/>
            <a:ext cx="771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3C90-52CC-4BDA-9BE3-C6D66A53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C3C3-773B-40A7-99AA-D37C624F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4FFC-638F-4976-90C8-E0F1C3AA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1140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62B4-C542-4543-9B5D-6A9A3C3A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6DC3-1426-49C1-B4DD-384595E8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6840" y="432576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3E48-9AB6-4C3A-B4DE-70648F16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1140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9FC3-330E-464C-BDD8-7F050F2FD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3000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0316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684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3000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0316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982A-8421-40E2-8BFA-AB941350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E0FA-5511-4653-9ED1-82D2C7AD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2F5C-D9C8-4D8F-BA91-96D8C7F9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085D-F354-4244-92DC-248AB80F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18960" y="609480"/>
            <a:ext cx="771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6192-FF81-4085-9C79-63863204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3649-6536-4B8B-A289-3B1A346F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1140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BBA4-9BF8-4C64-B9E7-C1E13A8D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95C4-5450-4161-8D94-03EF0F56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4400" y="1523880"/>
            <a:ext cx="368280" cy="474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6497-0E0D-4B34-AE0C-E39D0E26E6D0}" type="datetime3">
              <a:rPr b="0" lang="ko-KR" sz="1200" spc="-1" strike="noStrike">
                <a:solidFill>
                  <a:srgbClr val="ffffff"/>
                </a:solidFill>
                <a:latin typeface="Tahoma"/>
                <a:ea typeface="굴림"/>
              </a:rPr>
              <a:t>2026년 7월 30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42864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4ED5-F8FE-4B07-BA6E-D9857A55805E}" type="slidenum">
              <a:rPr b="0" lang="ko-KR" sz="1400" spc="-1" strike="noStrike">
                <a:solidFill>
                  <a:srgbClr val="ffffff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969696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6A75-A452-4F0E-816C-AA2C1829A5B0}" type="datetime3">
              <a:rPr b="0" lang="ko-KR" sz="1400" spc="-1" strike="noStrike">
                <a:solidFill>
                  <a:srgbClr val="969696"/>
                </a:solidFill>
                <a:latin typeface="Tahoma"/>
                <a:ea typeface="굴림"/>
              </a:rPr>
              <a:t>2026년 7월 30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969696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969696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969696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E90C-F801-4464-A109-5170EE0EEFE4}" type="slidenum">
              <a:rPr b="0" lang="ko-KR" sz="1400" spc="-1" strike="noStrike">
                <a:solidFill>
                  <a:srgbClr val="969696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92320" y="655308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73CC-1782-4C10-A96D-965D20A6FD57}" type="slidenum">
              <a:rPr b="0" lang="ko-KR" sz="1400" spc="-1" strike="noStrike">
                <a:solidFill>
                  <a:srgbClr val="969696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80773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굴림"/>
              </a:rPr>
              <a:t>Data Mining: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굴림"/>
              </a:rPr>
              <a:t>Concepts and Technique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— Slides for Textbook —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 — Chapter 1 —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411444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ahoma"/>
                <a:ea typeface="굴림"/>
              </a:rPr>
              <a:t>©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Jiawei Han and Micheline Kamb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telligent Database Systems Research La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chool of Computing Scien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imon Fraser University, Cana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http://www.cs.sfu.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6BF6-9358-44B4-838B-C5A88326D6C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F7AE4A-0021-4FF0-9B43-A148683D60D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arket Analysis and Management (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Where are the data sources for analysi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redit card transactions, loyalty cards, discount coupons, customer complaint calls, plus (public) lifestyle stud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arget marke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Find clusters of “model” customers who share the same characteristics: interest, income level, spending habits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etermine customer purchasing patterns over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onversion of single to a joint bank account: marriage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ross-market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ssociations/co-relations between product s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ediction based on the association inform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C8CE-3D36-4F21-98E7-6D5850E4542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2E189-DB12-4571-AEAE-3A8C5542C71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arket Analysis and Management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ustomer profi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 can tell you what types of customers buy what products (clustering or classificatio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dentifying customer requir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dentifying the best products for different custom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use prediction to find what factors will attract new custom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Provides summary infor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various multidimensional summary repor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tatistical summary information (data central tendency and variatio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12DD-57F8-4816-9862-3C87840ADD2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35375E-9818-4903-AA09-E8C10662CED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Corporate Analysis and Risk Manage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Finance planning and asset evalu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ash flow analysis and predi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ontingent claim analysis to evaluate asset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ross-sectional and time series analysis (financial-ratio, trend analysis,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Resource plann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ummarize and compare the resources and spend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ompeti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onitor competitors and market direction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group customers into classes and a class-based pricing proced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et pricing strategy in a highly competitive mark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D437-C9F3-4622-9C74-40D2C45F565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5881D9-F9E0-4CA0-9C20-1D94F3EBC08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Fraud Detection and Management (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widely used in health care, retail, credit card services, telecommunications (phone card fraud)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pproa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use historical data to build models of fraudulent behavior and use data mining to help identify similar insta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uto insuranc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detect a group of people who stage accidents to collect on insur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money launder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detect suspicious money transactions (US Treasury's Financial Crimes Enforcement Network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medical insuranc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detect professional patients and ring of doctors and ring of refere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F2AD-4467-4F1F-A4C1-0D4F9558E01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2AD93E-6DE7-41EA-94F4-D266DD1B40D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924680" cy="9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Fraud Detection and Management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etecting inappropriate medical treat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ustralian Health Insurance Commission identifies that in many cases blanket screening tests were requested  (save Australian $1m/yr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etecting telephone frau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Telephone call model: destination of the call, duration, time of day or week.  Analyze patterns that deviate from an expected nor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British Telecom identified discrete groups of callers with frequent intra-group calls, especially mobile phones, and broke a multimillion dollar frau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Reta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nalysts estimate that 38% of retail shrink is due to dishonest employe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E241-9AB0-40B4-843F-238750692F4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D4269-FA8B-4FB9-B1DB-C3E160FCFAC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28800" y="533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Other Applica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po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BM Advanced Scout analyzed NBA game statistics (shots blocked, assists, and fouls) to gain competitive advantage for New York Knicks and Miami He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stronom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JPL and the Palomar Observatory discovered 22 quasars with the help of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ternet Web Surf-A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BM Surf-Aid applies data mining algorithms to Web access logs for market-related pages to discover customer preference and behavior pages, analyzing effectiveness of Web marketing, improving Web site organization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C084-C261-40EF-B9A7-8284617D2B3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6A0B78-A4A3-48C5-922A-9C56F920193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: A KDD Proc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: the core of knowledge discovery proc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219320" y="5105160"/>
            <a:ext cx="99036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781680" y="1599840"/>
            <a:ext cx="99072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05520" y="2666880"/>
            <a:ext cx="99036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276720" y="3733560"/>
            <a:ext cx="99036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556272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5638680"/>
            <a:ext cx="685800" cy="406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594360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594360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6019920"/>
            <a:ext cx="685800" cy="406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6324480"/>
            <a:ext cx="685800" cy="1526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571500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5791320"/>
            <a:ext cx="685800" cy="406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6095880"/>
            <a:ext cx="685800" cy="1526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2760" y="4876920"/>
            <a:ext cx="174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Clea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96240" y="541008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Integ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62485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b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4114800"/>
            <a:ext cx="19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 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4572000"/>
            <a:ext cx="685800" cy="68580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9720" y="3429000"/>
            <a:ext cx="457200" cy="45720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77120" y="1981080"/>
            <a:ext cx="75960" cy="609840"/>
          </a:xfrm>
          <a:prstGeom prst="rect">
            <a:avLst/>
          </a:prstGeom>
          <a:solidFill>
            <a:srgbClr val="ff505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53080" y="2209680"/>
            <a:ext cx="76320" cy="381240"/>
          </a:xfrm>
          <a:prstGeom prst="rect">
            <a:avLst/>
          </a:prstGeom>
          <a:solidFill>
            <a:srgbClr val="33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00800" y="2133720"/>
            <a:ext cx="76320" cy="457200"/>
          </a:xfrm>
          <a:prstGeom prst="rect">
            <a:avLst/>
          </a:prstGeom>
          <a:solidFill>
            <a:srgbClr val="00e4a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29400" y="2362320"/>
            <a:ext cx="76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2590920"/>
            <a:ext cx="685800" cy="75960"/>
          </a:xfrm>
          <a:prstGeom prst="rect">
            <a:avLst/>
          </a:prstGeom>
          <a:solidFill>
            <a:srgbClr val="00e4a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2362320"/>
            <a:ext cx="152280" cy="228600"/>
          </a:xfrm>
          <a:prstGeom prst="rect">
            <a:avLst/>
          </a:prstGeom>
          <a:solidFill>
            <a:srgbClr val="ff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086600" y="990720"/>
            <a:ext cx="174312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Knowledg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9" name=""/>
          <p:cNvSpPr/>
          <p:nvPr/>
        </p:nvSpPr>
        <p:spPr>
          <a:xfrm>
            <a:off x="2511000" y="3276720"/>
            <a:ext cx="228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Task-relevant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41760" y="405288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Sel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65280" y="2590920"/>
            <a:ext cx="15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imes New Roman"/>
                <a:ea typeface="굴림"/>
              </a:rPr>
              <a:t>Data M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54560" y="1676520"/>
            <a:ext cx="22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Pattern Evalu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124080"/>
            <a:ext cx="0" cy="21337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15200" y="2057400"/>
            <a:ext cx="0" cy="3200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962160" y="5257800"/>
            <a:ext cx="33526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962520" y="43434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15200" y="5257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286000" y="6095880"/>
            <a:ext cx="502920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1905120" y="5409720"/>
            <a:ext cx="380880" cy="6858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5410080"/>
            <a:ext cx="16002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657600" y="4191120"/>
            <a:ext cx="0" cy="121896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3ECB-9A40-4019-9170-0255FB38F6E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3E019A-1E9F-4EE2-B3CF-EF5A388D43A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57909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Steps of a KDD Proces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Learning the application domai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relevant prior knowledge and goals of appli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reating a target data set: data sele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e4a8"/>
                </a:solidFill>
                <a:latin typeface="Tahoma"/>
                <a:ea typeface="굴림"/>
              </a:rPr>
              <a:t>Data clean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and preprocessing: (may take 60% of effort!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e4a8"/>
                </a:solidFill>
                <a:latin typeface="Tahoma"/>
                <a:ea typeface="굴림"/>
              </a:rPr>
              <a:t>Data reduction and transforma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Find useful features, dimensionality/variable reduction, invariant representat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hoosing functions of data min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summarization, classification, regression, association, clustering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hoosing the mining algorithm(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e4a8"/>
                </a:solidFill>
                <a:latin typeface="Tahoma"/>
                <a:ea typeface="굴림"/>
              </a:rPr>
              <a:t>Data min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search for patterns of intere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e4a8"/>
                </a:solidFill>
                <a:latin typeface="Tahoma"/>
                <a:ea typeface="굴림"/>
              </a:rPr>
              <a:t>Pattern evaluation and knowledge pres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visualization, transformation, removing redundant pattern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Use of discovered knowled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53F8-6AC4-43DC-993F-22EE842140E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59F74B-D88F-4E14-9E88-E9FA7AE7519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Data Mining and Business Intelligenc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447920"/>
            <a:ext cx="7467480" cy="5029200"/>
          </a:xfrm>
          <a:prstGeom prst="flowChartExtra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586728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5257800"/>
            <a:ext cx="5638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4495680"/>
            <a:ext cx="457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373392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8954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33520" y="1447920"/>
            <a:ext cx="0" cy="5029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839080" y="1447920"/>
            <a:ext cx="0" cy="5029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7960" y="1509840"/>
            <a:ext cx="1911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Increasing poten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to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business decis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50440" y="1955880"/>
            <a:ext cx="9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End 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54400" y="2946240"/>
            <a:ext cx="94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Busin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Analy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43320" y="3784680"/>
            <a:ext cx="84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Analy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103600" y="56894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D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3960" y="20574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Mak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eci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8680" y="299880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Pres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7440" y="3352680"/>
            <a:ext cx="25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Visualization Techni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71440" y="377208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Mi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2360" y="403848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Information Discov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57600" y="4572000"/>
            <a:ext cx="1889280" cy="368280"/>
          </a:xfrm>
          <a:prstGeom prst="rect">
            <a:avLst/>
          </a:prstGeom>
          <a:noFill/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Explo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7280" y="556272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OLAP, M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61240" y="4800600"/>
            <a:ext cx="43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Statistical Analysis, Querying and Repor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8480" y="5257800"/>
            <a:ext cx="32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Warehouses / Data Mar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11680" y="586728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Sour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96600" y="6095880"/>
            <a:ext cx="60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Paper, Files, Information Providers, Database Systems, OL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6477120"/>
            <a:ext cx="8381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19AF-17DC-4011-828B-B2484236DD2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EA65F-3AB4-48B2-80A8-498AE8D5554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Architecture of a Typical Data Mining Syste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5486400"/>
            <a:ext cx="91440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00400" y="533412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52880" y="6172200"/>
            <a:ext cx="129564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52880" y="5486400"/>
            <a:ext cx="129564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52880" y="5334120"/>
            <a:ext cx="1295640" cy="30456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76920" y="556272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57800" y="4038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4038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9920" y="38098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3276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4120" y="3276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57600" y="49528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9528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5029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cleaning &amp; data 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62720" y="4952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Filte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617220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5486400"/>
            <a:ext cx="91440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533412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617220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90920" y="5791320"/>
            <a:ext cx="13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b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43200" y="49528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4343400"/>
            <a:ext cx="3504960" cy="68580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4343400"/>
            <a:ext cx="2667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base or data warehouse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3505320"/>
            <a:ext cx="350532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Data mining eng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90920" y="2666880"/>
            <a:ext cx="3504960" cy="60984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Pattern eval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14600" y="1752480"/>
            <a:ext cx="3657600" cy="60984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Graphical user 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52680" y="2362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7672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4120" y="2362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5880" y="2971800"/>
            <a:ext cx="106704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3200400"/>
            <a:ext cx="990720" cy="3808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62920" y="3124080"/>
            <a:ext cx="914400" cy="838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297180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3809880"/>
            <a:ext cx="914400" cy="3812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53080" y="4114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nowledge-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E134-F3EF-4857-BF11-C1F8BA7BB60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B7D611-039B-469F-A02D-3083F703B49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Acknowledgem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his work on this set of slides started with my (Han’s) tutorial for UCLA Extension course in February 199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r.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  <a:ea typeface="굴림"/>
              </a:rPr>
              <a:t>Hongjun L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from Hong Kong Univ. of Science and Technology taught jointly with me a Data Mining Summer Course in Shanghai, China in July 1998.  He has contributed many excellent slides to 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ome graduate students have contributed many new slides in the following years.  Notable contributors include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  <a:ea typeface="굴림"/>
              </a:rPr>
              <a:t>Eugene Belchev, Jian Pe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, and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  <a:ea typeface="굴림"/>
              </a:rPr>
              <a:t>Osmar R. Zaia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(now teaching in Univ. of Albert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ECC0-D6F8-4061-B94E-8B28490452C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425599-D036-47D2-B97C-C4267131A13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: On What Kind of Data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Relational datab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 warehou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ransactional datab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dvanced DB and information reposito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bject-oriented and object-relational data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patial data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ime-series data and temporal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ext databases and multimedia data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Heterogeneous and legacy data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BA66-D3D5-4F4A-BE98-BDEC37708E1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9699D9-8867-4891-8A38-2404A998678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52120" y="685440"/>
            <a:ext cx="649620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ies (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Concept description: Characterization and discrimi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Generalize, summarize, and contrast data characteristics, e.g., dry vs. wet reg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ssoci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correlation and causalit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ulti-dimensional vs. single-dimensional associ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ge(X, “20..29”) ^ income(X, “20..29K”)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buys(X, “PC”) [support = 2%, confidence = 60%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ontains(T, “computer”)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contains(x, “software”) [1%, 75%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0092-9151-43D3-955F-D17F7C7DDAD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628487-5ABF-4D98-8E37-B3EBB9B809A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39800" y="700200"/>
            <a:ext cx="6664320" cy="63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ies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Classification and Predic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Finding models (functions) that describe and distinguish classes or concepts for future predi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.g., classify countries based on climate, or classify cars based on gas mile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esentation: decision-tree, classification rule, neural net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ediction: Predict some unknown or missing numerical valu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Cluster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lass label is unknown: Group data to form new classes, e.g., cluster houses to find distribution patter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lustering based on the principle: maximizing the intra-class similarity and minimizing the interclass similar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C074-8F62-4543-89FD-332E22EDFF6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9775F4-1D21-4491-AF3D-08EF8CC1E5E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39800" y="700200"/>
            <a:ext cx="6664320" cy="63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ies (3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utlier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Outlier: a data object that does not comply with the general behavior of the da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It can be considered as noise or exception but is quite useful in fraud detection, rare events analys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rend and evolution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Trend and deviation:  regression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equential pattern mining, periodicity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imilarity-based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ther pattern-directed or statistical analy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6823-F804-423D-9077-733AACC547A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B2D9F-5244-4385-90F0-C4785AA46DF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Are All the “Discovered” Patterns Interesting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3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 data mining system/query may generate thousands of patterns, not all of them are interest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Suggested approach: Human-centered, query-based, focused min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Interestingness measur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A pattern is </a:t>
            </a:r>
            <a:r>
              <a:rPr b="0" lang="en-US" sz="2000" spc="-1" strike="noStrike">
                <a:solidFill>
                  <a:srgbClr val="ff5050"/>
                </a:solidFill>
                <a:latin typeface="Tahoma"/>
                <a:ea typeface="굴림"/>
              </a:rPr>
              <a:t>interest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if it i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easily understoo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by humans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valid on new or test dat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with some degree of certainty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potentially usefu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novel, or validates some hypothesi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that a user seeks to confirm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bjective vs. subjective interestingness measur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bjective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 based on statistics and structures of patterns, e.g., support, confidence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ubjective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 based on user’s belief in the data, e.g., unexpectedness, novelty, actionability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DAE3-C306-4F88-80DA-AFEFBBA4859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E5909-83F7-4DF2-8A82-2DAF980D381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Can We Find All and Only Interesting Pattern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Find all the interesting patterns: Complete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an a data mining system fi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l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the interesting pattern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ssociation vs. classification vs. cluster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earch for only interesting patterns: Optimiz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an a data mining system fi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nl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the interesting pattern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pproach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First general all the patterns and then filter out the uninteresting on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Generate only the interesting patterns—mining query optimiz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CE5A-3D3B-4412-94B1-3E84A38A5E5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D193C-43EF-4138-B816-664A2B5A5CC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4678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: Confluence of Multiple Discipline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3429000" y="3429000"/>
            <a:ext cx="2209680" cy="914400"/>
          </a:xfrm>
          <a:prstGeom prst="rect">
            <a:avLst/>
          </a:prstGeom>
          <a:solidFill>
            <a:srgbClr val="ffcf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Data M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52480" y="1905120"/>
            <a:ext cx="1981440" cy="7617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ba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05520" y="1905120"/>
            <a:ext cx="1981080" cy="7617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tatis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38680" y="5257800"/>
            <a:ext cx="1981440" cy="76212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iscip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71600" y="5181480"/>
            <a:ext cx="1981080" cy="76212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c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3505320"/>
            <a:ext cx="1981440" cy="7617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ach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Lear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505320"/>
            <a:ext cx="1981440" cy="7617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Visual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362320" y="3886200"/>
            <a:ext cx="10666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95480" y="2666880"/>
            <a:ext cx="129564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876560" y="2666880"/>
            <a:ext cx="114300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714640" y="3886200"/>
            <a:ext cx="10666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5028840" y="4419720"/>
            <a:ext cx="152388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438280" y="4419720"/>
            <a:ext cx="160020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5B4C-95AC-4A5A-B199-8C5B7E9358C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98F42F-DBDC-4E02-9C96-BC6E71CB2E9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: Classification Schem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General function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escriptive data min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Predictive data m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Different views, different classif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inds of databases to be min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inds of knowledge to be discove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inds of techniques utiliz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inds of applications adap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E575-BEE9-4B91-A862-38F6F2E36D5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2775B-7AA2-4A3E-8822-7B1857F3E46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A Multi-Dimensional View of Data Mining Classific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bases to be mi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Relational, transactional, object-oriented, object-relational, active, spatial, time-series, text, multi-media, heterogeneous, legacy, WWW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Knowledge to be mi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haracterization, discrimination, association, classification, clustering, trend, deviation and outlier analysis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ultiple/integrated functions and mining at multiple leve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echniques utiliz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base-oriented, data warehouse (OLAP), machine learning, statistics, visualization, neural network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pplications adap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Retail, telecommunication, banking, fraud analysis, DNA mining, stock market analysis, Web mining, Weblog analysi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EDBE-1AD5-491F-B239-A7143619553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5D516B-3895-40D6-9237-51AEA4FA77A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OLAP Mining: An Integration of Data Mining and Data Warehous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 systems, DBMS, Data warehouse systems coup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No coupling, loose-coupling, semi-tight-coupling, tight-coupl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On-line analytical mining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tegration of mining and OLAP technolog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teractive mining multi-level knowle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Necessity of mining knowledge and patterns at different levels of abstraction by drilling/rolling, pivoting, slicing/dicing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tegration of multiple mining fun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haracterized classification, first clustering and then associ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97D1-223A-4E74-87C2-FD952CED152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3030E5-79A5-4F87-9E12-447EC54A44C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169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PMingLiU"/>
              </a:rPr>
              <a:t>CMPT-459-00.3 Course Schedu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1. Introduction {W1:L2, 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2. Data warehousing and OLAP technology for data mining {W2:L1-3, W3:L1-2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Homework # 1 distribution (SQLServer7.0+ DBMiner2.0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3. Data preprocessing {W3:L3, W4: L1-L2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4. Data mining primitives, languages and system architectures  {W4: L3, W5: L1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Homework #1 due, homework #2 distribu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5. Concept description: Characterization and comparison  {W5: L2, L3, W6: L2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W6:L1 Thanksgiving Da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6. Mining association rules in large databases  {W6: L3, W7: L1-3, W8: L2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Midterm {W8: L2}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7. Classification and prediction {W8:L3, W9: L1-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8. Clustering analysis  {W10: L1-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W10: L3 Homework #2 du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9. Mining complex types of data {W11: L2-L3, W12:L1-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W11:L1 Remembrance Day, W12:L3 Course project du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10. Data mining applications and trends in data mining {W13: L1-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Final Exam (W14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1B9A-BACF-4E5D-96ED-3A6A367529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504814-F639-43D0-B1DE-0552849C4EF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An OLAM Architectu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5715000" y="4495680"/>
            <a:ext cx="685800" cy="22860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15000" y="411480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15000" y="4191120"/>
            <a:ext cx="685800" cy="406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886200"/>
            <a:ext cx="1143000" cy="10666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81080" y="5791320"/>
            <a:ext cx="91440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81080" y="5638680"/>
            <a:ext cx="914400" cy="3812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6477120"/>
            <a:ext cx="129564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52880" y="5791320"/>
            <a:ext cx="129564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52880" y="5638680"/>
            <a:ext cx="1295640" cy="30492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76920" y="58672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62720" y="4648320"/>
            <a:ext cx="133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Meta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5268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MDD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4724280" y="4343040"/>
            <a:ext cx="838440" cy="2286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1676520"/>
            <a:ext cx="5715000" cy="7596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3505320"/>
            <a:ext cx="5715000" cy="7596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2057400"/>
            <a:ext cx="2514600" cy="10666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OL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76920" y="2057400"/>
            <a:ext cx="2514600" cy="10666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OL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2362320" y="3657600"/>
            <a:ext cx="91440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2133360" y="3809880"/>
            <a:ext cx="106668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876920" y="3657600"/>
            <a:ext cx="60948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952880" y="3657240"/>
            <a:ext cx="990720" cy="6094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00200" y="3124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33720" y="3124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67280" y="3124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553080" y="3124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00400" y="243828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74320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23880" y="1752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09680" y="1752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15000" y="1752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77120" y="1752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95480" y="1676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User GUI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6680" y="3124080"/>
            <a:ext cx="185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 Cube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95280" y="5181480"/>
            <a:ext cx="5715000" cy="7632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438280" y="5257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62720" y="5257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438280" y="4647960"/>
            <a:ext cx="91440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4495320" y="4800600"/>
            <a:ext cx="68580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22640" y="5181480"/>
            <a:ext cx="16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base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95480" y="624852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6720" y="61722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01480" y="586728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clea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48120" y="6248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" y="358128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" y="518148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600" y="167652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238880" y="205740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굴림"/>
              </a:rPr>
              <a:t>Layer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OLAP/OL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38880" y="388620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굴림"/>
              </a:rPr>
              <a:t>Layer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MDD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238880" y="5562720"/>
            <a:ext cx="19051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굴림"/>
              </a:rPr>
              <a:t>Layer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Reposi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38880" y="83808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굴림"/>
              </a:rPr>
              <a:t>Layer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User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876920" y="14479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76920" y="14479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6477120" y="11426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52578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Filtering&amp;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562720" y="5257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Filte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647712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66680" y="5791320"/>
            <a:ext cx="91440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66680" y="5638680"/>
            <a:ext cx="914400" cy="3812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66680" y="647712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71600" y="6095880"/>
            <a:ext cx="13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b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23880" y="5257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23880" y="14479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14479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1523880" y="12952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0880" y="838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Mining qu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10080" y="838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Mining resu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095880" y="3657600"/>
            <a:ext cx="228600" cy="457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4C10-E5EB-4EF3-AED3-F326EA00F8D1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85A831-A213-4CC7-B171-FBB765F37B4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ajor Issues in Data Mining (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Mining methodology and user intera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ining different kinds of knowledge in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teractive mining o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knowledge at multiple levels of abstr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corporation of background knowled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 query languages and ad-hoc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xpression and visualization of data mining resul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Handling noise and incomplete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attern evaluation: the interestingness probl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Performance and scal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fficiency and scalability of data mining algorith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arallel, distributed and incremental mining metho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70FF-938A-46BE-97E9-6AE9E6EED93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49B1B9-1236-4F18-8FCA-C993617D4E3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ajor Issues in Data Mining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Issues relating to the diversity of data typ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Handling relational and complex types of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ining information from heterogeneous databases and global information systems (WWW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Issues related to applications and social impa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pplication of discovered knowled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omain-specific data mining too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telligent query answer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ocess control and decision mak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tegration of the discovered knowledge with existing knowledge: A knowledge fusion probl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otection of data security, integrity, and priva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5F04-0D16-45F1-AFD4-032A41A40D2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A07663-401C-442F-AB52-092BB5FB9B5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23880" y="837720"/>
            <a:ext cx="3276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: discovering interesting patterns from large amounts of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 natural evolution of database technology, in great demand, with wide appl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 KDD process includes data cleaning, data integration, data selection, transformation, data mining, pattern evaluation, and knowledge pres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ining can be performed in a variety of information repositor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ies: characterization, discrimination, association, classification, clustering, outlier and trend analysis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lassification of data mining syst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ajor issues in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E460-6260-4B5C-B375-C6EF0DF9362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6057D-D46E-48B0-97F9-B33CA308421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A Brief History of Data Mining Socie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1989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IJCAI Workshop on Knowledge Discovery in Databases (Piatetsky-Shapir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Knowledge Discovery in Databases (G. Piatetsky-Shapiro and W. Frawley, 1991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1991-1994 Workshops on Knowledge Discovery in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Advances in Knowledge Discovery and Data Mining (U. Fayyad, G. Piatetsky-Shapiro, P. Smyth, and R. Uthurusamy, 1996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1995-1998 International Conferences on Knowledge Discovery in Databases and Data Mining (KDD’95-98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Journal of Data Mining and Knowledge Discovery (1997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1998 ACM SIGKDD, SIGKDD’1999-2001 conferences, and SIGKDD Explor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More conferences on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PAKDD, PKDD, SIAM-Data Mining, (IEEE) ICDM, et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50D2-9832-4E34-9DAB-11F72B7A782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B4737D-09CE-4361-BF0E-0708929731B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3880" y="685800"/>
            <a:ext cx="7010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Where to Find Reference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 mining and KDD (SIGKDD member CDROM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KDD, and others, such as PKDD, PAKDD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: Data Mining and Knowledge Discove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base field (SIGMOD member CD ROM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ACM-SIGMOD, ACM-PODS, VLDB, ICDE, EDBT, DASFA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s: ACM-TODS, J. ACM, IEEE-TKDE, JII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I and Machine Learning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Machine learning, AAAI, IJCAI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s: Machine Learning, Artificial Intelligence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tatistic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Joint Stat. Meeting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s: Annals of statistic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Visualizatio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CHI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s: IEEE Trans. visualization and computer graphic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1098-C813-4159-9E5F-93BE942373E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E4607-6B8C-4B80-AEE8-6D5686092E5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99760" y="609480"/>
            <a:ext cx="7155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Referenc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U. M. Fayyad, G. Piatetsky-Shapiro, P. Smyth, and R. Uthurusamy. Advances in Knowledge Discovery and Data Mining. AAAI/MIT Press, 1996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J. Han and M. Kamber. Data Mining: Concepts and Techniques. Morgan Kaufmann, 2000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T. Imielinski and H. Mannila. A database perspective on knowledge discovery. Communications of ACM, 39:58-64, 1996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G. Piatetsky-Shapiro, U. Fayyad, and P. Smith. From data mining to knowledge discovery: An overview. In U.M. Fayyad, et al. (eds.), Advances in Knowledge Discovery and Data Mining, 1-35. AAAI/MIT Press, 1996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G. Piatetsky-Shapiro and W. J. Frawley. Knowledge Discovery in Databases. AAAI/MIT Press, 1991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E0C2-A974-4344-81A5-33FA8DCE2D8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EBADA0-C523-4B13-9D09-CB9FFB0239E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31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굴림"/>
              </a:rPr>
              <a:t>http://www.cs.sfu.ca/~h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120" y="54097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Arial"/>
                <a:ea typeface="굴림"/>
              </a:rPr>
              <a:t>Thank you !!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590920" y="1219320"/>
          <a:ext cx="418932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219320"/>
                    <a:ext cx="418932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CA4D-E770-472E-95A1-87799557B5B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8EAAED-62B4-453D-8A65-BF8273AB9FD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PMingLiU"/>
              </a:rPr>
              <a:t>CMPT-843 Course Arrange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1st week: full instructor teach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2nd to 11th week: 1/2 graduate student + 1/2 instructor teach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12-13th week: full student graduate project present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Course evaluatio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presentation (quality of presentation slides 7% + presentation 8%) 15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midterm exam 35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project (presentation 5% + report 25%)  total 30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homework  (2): 20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Deadline for the selection of your work in the semester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selection of course presentation: at the end of the 1st wee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selection of the course project: at the end of the 3rd wee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project proposal due date: at the end of the 4th wee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homework due dates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project due date: end of the semes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Your presentation slides due date: one day before the present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midterm date: end of the 8th wee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7E6B-69A2-46A7-9DD4-E16D7A41D8E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F0A2E8-45BF-4D5A-A09A-E0A9C140FD8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Where to Find the Set of Slid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8153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utorial sections (MS PowerPoint files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http://www.cs.sfu.ca/~han/dmboo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Other conference presentation slides (.ppt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http://db.cs.sfu.ca/ or http://www.cs.sfu.ca/~h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Research papers, DBMiner system, and other related information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http://db.cs.sfu.ca/ or http://www.cs.sfu.ca/~h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D1AE-2559-48E4-B323-E37E88A9E5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B4EC2-452A-43BA-A889-6E1919113BA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Chapter 1.  Introdu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otivation: Why data min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What is data min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: On what kind of dat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re all the patterns interest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lassification of data mining syst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ajor issues in data m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91E3-3167-461F-862D-E86D2833B6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A9FC05-35BE-4EE7-A45F-E2C6F69FA9E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otivation:  “Necessity is the Mother of Invention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 explosion proble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utomated data collection tools and mature database technology lead to tremendous amounts of data stored in databases, data warehouses and other information repositories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5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We are drowning in data, but starving for knowledge!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5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olution: Data warehousing and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Data warehousing and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on-line analytical process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xtraction of interesting knowledge (rules, regularities,  patterns, constraints) from data in large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B4BD-E108-44CF-8805-0693105A06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F2AD4-A604-4CB6-9385-582D246B42D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5335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Evolution of Database Technology</a:t>
            </a:r>
            <a:br>
              <a:rPr sz="3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(See Fig. 1.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ahoma"/>
                <a:ea typeface="굴림"/>
              </a:rPr>
              <a:t>196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collection, database creation, IMS and network DB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1970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Relational data model, relational DBMS implem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1980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RDBMS, advanced data models (extended-relational, OO, deductive, etc.) and application-oriented DBMS (spatial, scientific, engineering,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1990s—2000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 and data warehousing, multimedia databases, and Web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3154-ECDB-4FD6-9DF6-A9C8CE3B16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A7E559-CF39-4866-8344-F929B8FE0A1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58640" y="699840"/>
            <a:ext cx="7507080" cy="80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What Is Data Mining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 (knowledge discovery in databases):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xtraction of interesting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(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non-trivial,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implicit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previously unknown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potentially useful)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nformation or patterns from data i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large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lternative names and their “inside stories”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: a misnomer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Knowledge discovery(mining) in databases (KDD), knowledge extraction, data/pattern analysis, data archeology, data dredging, information harvesting, business intelligence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What is not data min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(Deductive) query processing.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xpert systems or small ML/statistical progra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772400" y="228600"/>
            <a:ext cx="1087560" cy="1174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238880" y="4932360"/>
            <a:ext cx="1905120" cy="13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B29E-9AF1-4EDF-BD4D-0323458F80D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D2E538-2756-4048-B830-78779177CFA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Why Data Mining? — Potential Applica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base analysis and decision suppo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Market analysis and manag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target marketing, customer relation management,  market basket analysis, cross selling, market segm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Risk analysis and manag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Forecasting, customer retention, improved underwriting, quality control, competitive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Fraud detection and manag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Other Appl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Text mining (news group, email, documents) and Web analysi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Intelligent query answer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91B2-835A-4DBB-8E9D-4E1657EC679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27907-EE35-4C3A-AB4E-4027EBDA41C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1T22:01:55Z</dcterms:created>
  <dc:creator>Jiawei Han</dc:creator>
  <dc:description/>
  <dc:language>en-US</dc:language>
  <cp:lastModifiedBy>Jong Soo Park</cp:lastModifiedBy>
  <cp:lastPrinted>2000-06-01T21:00:25Z</cp:lastPrinted>
  <dcterms:modified xsi:type="dcterms:W3CDTF">2002-05-14T02:30:51Z</dcterms:modified>
  <cp:revision>167</cp:revision>
  <dc:subject/>
  <dc:title>Mining Frequent Patterns Without Candidate Generation</dc:title>
</cp:coreProperties>
</file>