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B0C4-17B7-4932-8E6A-25E715A9F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8077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7720" y="3806280"/>
            <a:ext cx="8077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8631-C5EA-4F9B-8DE4-B80CF3727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3941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77000" y="1219320"/>
            <a:ext cx="3941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7720" y="3806280"/>
            <a:ext cx="3941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77000" y="3806280"/>
            <a:ext cx="3941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2B7C-F2C4-4FEF-96EE-C5CA371E3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2600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68680" y="1219320"/>
            <a:ext cx="2600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00000" y="1219320"/>
            <a:ext cx="2600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7720" y="3806280"/>
            <a:ext cx="2600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68680" y="3806280"/>
            <a:ext cx="2600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00000" y="3806280"/>
            <a:ext cx="2600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7CDB-2349-42AD-9E97-D92C89555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C18F5-56B5-4AF5-9988-D1006BD98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837720" y="121932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93CA0-74A0-47E6-9D2F-0B577DC23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44B49-3C2D-479E-8A8B-8DEAE6373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3941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7000" y="1219320"/>
            <a:ext cx="3941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24720-4AA2-43BA-9754-7A5928921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CB478-E8BF-4C87-94DC-6963BFD04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762120" y="304920"/>
            <a:ext cx="815328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9237F-6DF0-49BA-888D-8AB5278DD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3941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77000" y="1219320"/>
            <a:ext cx="3941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37720" y="3806280"/>
            <a:ext cx="3941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4CA5A-82CF-4B56-B017-9F88A0C9C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7720" y="121932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2A8C-4B78-4431-8B4D-E79682E4C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3941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77000" y="1219320"/>
            <a:ext cx="3941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977000" y="3806280"/>
            <a:ext cx="3941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F4839-2978-4342-AD92-7E4428296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3941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977000" y="1219320"/>
            <a:ext cx="3941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837720" y="3806280"/>
            <a:ext cx="8077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3352B-881C-4300-BD6F-FC59CCE31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8077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837720" y="3806280"/>
            <a:ext cx="8077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629A4-BC19-49D2-8786-C660722BA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3941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977000" y="1219320"/>
            <a:ext cx="3941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837720" y="3806280"/>
            <a:ext cx="3941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977000" y="3806280"/>
            <a:ext cx="3941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124DD-4F2F-4673-BCBD-D7D33BCD1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2600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568680" y="1219320"/>
            <a:ext cx="2600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300000" y="1219320"/>
            <a:ext cx="2600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837720" y="3806280"/>
            <a:ext cx="2600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568680" y="3806280"/>
            <a:ext cx="2600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300000" y="3806280"/>
            <a:ext cx="2600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60A0F-DCB4-49AE-8B35-E85D57CD8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F214-F063-4BB9-8010-DCFFC3B32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3941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77000" y="1219320"/>
            <a:ext cx="3941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B81F-45D3-4B3E-91AB-17AB976E6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42E2-AFF7-4718-A00D-6FA3C1837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762120" y="304920"/>
            <a:ext cx="815328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64FC-8033-42A0-BA07-87AD0564E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3941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77000" y="1219320"/>
            <a:ext cx="3941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7720" y="3806280"/>
            <a:ext cx="3941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8221-BDB7-47FC-BB4B-A907BD3EC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3941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77000" y="1219320"/>
            <a:ext cx="3941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77000" y="3806280"/>
            <a:ext cx="3941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6F65-60EC-4526-AD68-10A8C5E5F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3941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77000" y="1219320"/>
            <a:ext cx="3941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7720" y="3806280"/>
            <a:ext cx="8077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B21D-500A-4F82-B2E3-EB9D4A695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533520" y="685800"/>
            <a:ext cx="32832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99072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85800" y="114300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762120"/>
            <a:ext cx="56052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14300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f5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7720" y="121932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ccff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2666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4190760" y="632448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20234-70D5-426B-AA0A-E74709CB443D}" type="slidenum">
              <a:rPr b="0" lang="ko-KR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5f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f5f5f"/>
                </a:solidFill>
                <a:latin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5f5f5f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f5f5f"/>
                </a:solidFill>
                <a:latin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5f5f5f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f5f5f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8EA55-D79F-426F-B8F5-C15D1AF1DCF6}" type="slidenum">
              <a:rPr b="0" lang="ko-KR" sz="1400" spc="-1" strike="noStrike">
                <a:solidFill>
                  <a:srgbClr val="5f5f5f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ccffcc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9903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333399"/>
                </a:solidFill>
                <a:latin typeface="Arial"/>
              </a:rPr>
              <a:t>데이터 웨어하우스와 </a:t>
            </a:r>
            <a:br>
              <a:rPr sz="4800"/>
            </a:br>
            <a:r>
              <a:rPr b="0" lang="ko-KR" sz="4800" spc="-1" strike="noStrike">
                <a:solidFill>
                  <a:srgbClr val="333399"/>
                </a:solidFill>
                <a:latin typeface="Arial"/>
              </a:rPr>
              <a:t>데이터마이닝</a:t>
            </a: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박  종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컴퓨터정보학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성신여자대학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3333cc"/>
                </a:solidFill>
                <a:latin typeface="Arial"/>
              </a:rPr>
              <a:t>http://cs.sungshin.ac.kr/~jpa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2_2" descr=""/>
          <p:cNvPicPr/>
          <p:nvPr/>
        </p:nvPicPr>
        <p:blipFill>
          <a:blip r:embed="rId1"/>
          <a:stretch/>
        </p:blipFill>
        <p:spPr>
          <a:xfrm>
            <a:off x="1676520" y="1219320"/>
            <a:ext cx="6781680" cy="52606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통합에 대한 문제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4664-3585-4FCB-A330-CEFBD56DBA1F}" type="slidenum">
              <a:t>1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ark@cs.sungshin.ac.k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2_3" descr=""/>
          <p:cNvPicPr/>
          <p:nvPr/>
        </p:nvPicPr>
        <p:blipFill>
          <a:blip r:embed="rId1"/>
          <a:stretch/>
        </p:blipFill>
        <p:spPr>
          <a:xfrm>
            <a:off x="1143000" y="1219320"/>
            <a:ext cx="7543800" cy="49035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데이터의 비휘발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1D8B-4AD1-45E6-A830-774954696151}" type="slidenum">
              <a:t>1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ark@cs.sungshin.ac.k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2_4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7391520" cy="49561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데이터의 시간 변이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A6B2-C486-4589-B0B5-5EF359527B80}" type="slidenum">
              <a:t>1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ark@cs.sungshin.ac.k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"/>
          <p:cNvGrpSpPr/>
          <p:nvPr/>
        </p:nvGrpSpPr>
        <p:grpSpPr>
          <a:xfrm>
            <a:off x="2438280" y="1752120"/>
            <a:ext cx="5715360" cy="4000680"/>
            <a:chOff x="2438280" y="1752120"/>
            <a:chExt cx="5715360" cy="4000680"/>
          </a:xfrm>
        </p:grpSpPr>
        <p:grpSp>
          <p:nvGrpSpPr>
            <p:cNvPr id="124" name=""/>
            <p:cNvGrpSpPr/>
            <p:nvPr/>
          </p:nvGrpSpPr>
          <p:grpSpPr>
            <a:xfrm>
              <a:off x="5638680" y="1752120"/>
              <a:ext cx="2514960" cy="1495440"/>
              <a:chOff x="5638680" y="1752120"/>
              <a:chExt cx="2514960" cy="1495440"/>
            </a:xfrm>
          </p:grpSpPr>
          <p:grpSp>
            <p:nvGrpSpPr>
              <p:cNvPr id="125" name=""/>
              <p:cNvGrpSpPr/>
              <p:nvPr/>
            </p:nvGrpSpPr>
            <p:grpSpPr>
              <a:xfrm>
                <a:off x="6552000" y="2666880"/>
                <a:ext cx="686880" cy="580680"/>
                <a:chOff x="6552000" y="2666880"/>
                <a:chExt cx="686880" cy="580680"/>
              </a:xfrm>
            </p:grpSpPr>
            <p:sp>
              <p:nvSpPr>
                <p:cNvPr id="126" name=""/>
                <p:cNvSpPr/>
                <p:nvPr/>
              </p:nvSpPr>
              <p:spPr>
                <a:xfrm>
                  <a:off x="6553080" y="2666880"/>
                  <a:ext cx="685800" cy="152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6553080" y="2742840"/>
                  <a:ext cx="0" cy="380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7238880" y="2742840"/>
                  <a:ext cx="0" cy="380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129" name=""/>
                <p:cNvCxnSpPr>
                  <a:stCxn id="127" idx="0"/>
                  <a:endCxn id="128" idx="0"/>
                </p:cNvCxnSpPr>
                <p:nvPr/>
              </p:nvCxnSpPr>
              <p:spPr>
                <a:xfrm flipH="1" rot="16200000">
                  <a:off x="6894360" y="2781360"/>
                  <a:ext cx="2160" cy="686520"/>
                </a:xfrm>
                <a:prstGeom prst="curvedConnector5">
                  <a:avLst>
                    <a:gd name="adj1" fmla="val 6880000"/>
                    <a:gd name="adj2" fmla="val 50000"/>
                    <a:gd name="adj3" fmla="val 6880000"/>
                  </a:avLst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</p:grpSp>
          <p:grpSp>
            <p:nvGrpSpPr>
              <p:cNvPr id="130" name=""/>
              <p:cNvGrpSpPr/>
              <p:nvPr/>
            </p:nvGrpSpPr>
            <p:grpSpPr>
              <a:xfrm>
                <a:off x="5638680" y="1980720"/>
                <a:ext cx="381240" cy="460080"/>
                <a:chOff x="5638680" y="1980720"/>
                <a:chExt cx="381240" cy="460080"/>
              </a:xfrm>
            </p:grpSpPr>
            <p:sp>
              <p:nvSpPr>
                <p:cNvPr id="131" name=""/>
                <p:cNvSpPr/>
                <p:nvPr/>
              </p:nvSpPr>
              <p:spPr>
                <a:xfrm flipV="1">
                  <a:off x="5638680" y="1980360"/>
                  <a:ext cx="380880" cy="152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5638680" y="205704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6019560" y="205704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134" name=""/>
                <p:cNvCxnSpPr>
                  <a:stCxn id="132" idx="0"/>
                  <a:endCxn id="133" idx="0"/>
                </p:cNvCxnSpPr>
                <p:nvPr/>
              </p:nvCxnSpPr>
              <p:spPr>
                <a:xfrm flipH="1" rot="16200000">
                  <a:off x="5828400" y="2171880"/>
                  <a:ext cx="2160" cy="381600"/>
                </a:xfrm>
                <a:prstGeom prst="curvedConnector5">
                  <a:avLst>
                    <a:gd name="adj1" fmla="val 4380000"/>
                    <a:gd name="adj2" fmla="val 49952"/>
                    <a:gd name="adj3" fmla="val 4380000"/>
                  </a:avLst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</p:grpSp>
          <p:grpSp>
            <p:nvGrpSpPr>
              <p:cNvPr id="135" name=""/>
              <p:cNvGrpSpPr/>
              <p:nvPr/>
            </p:nvGrpSpPr>
            <p:grpSpPr>
              <a:xfrm>
                <a:off x="7772400" y="1980720"/>
                <a:ext cx="381240" cy="460080"/>
                <a:chOff x="7772400" y="1980720"/>
                <a:chExt cx="381240" cy="460080"/>
              </a:xfrm>
            </p:grpSpPr>
            <p:sp>
              <p:nvSpPr>
                <p:cNvPr id="136" name=""/>
                <p:cNvSpPr/>
                <p:nvPr/>
              </p:nvSpPr>
              <p:spPr>
                <a:xfrm flipV="1">
                  <a:off x="7772400" y="1980360"/>
                  <a:ext cx="380880" cy="152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7772400" y="205704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8153280" y="205704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139" name=""/>
                <p:cNvCxnSpPr>
                  <a:stCxn id="137" idx="0"/>
                  <a:endCxn id="138" idx="0"/>
                </p:cNvCxnSpPr>
                <p:nvPr/>
              </p:nvCxnSpPr>
              <p:spPr>
                <a:xfrm flipH="1" rot="16200000">
                  <a:off x="7962120" y="2171880"/>
                  <a:ext cx="2160" cy="381600"/>
                </a:xfrm>
                <a:prstGeom prst="curvedConnector5">
                  <a:avLst>
                    <a:gd name="adj1" fmla="val 4380000"/>
                    <a:gd name="adj2" fmla="val 49952"/>
                    <a:gd name="adj3" fmla="val 4380000"/>
                  </a:avLst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</p:grpSp>
          <p:grpSp>
            <p:nvGrpSpPr>
              <p:cNvPr id="140" name=""/>
              <p:cNvGrpSpPr/>
              <p:nvPr/>
            </p:nvGrpSpPr>
            <p:grpSpPr>
              <a:xfrm>
                <a:off x="6172200" y="1828440"/>
                <a:ext cx="381240" cy="460080"/>
                <a:chOff x="6172200" y="1828440"/>
                <a:chExt cx="381240" cy="460080"/>
              </a:xfrm>
            </p:grpSpPr>
            <p:sp>
              <p:nvSpPr>
                <p:cNvPr id="141" name=""/>
                <p:cNvSpPr/>
                <p:nvPr/>
              </p:nvSpPr>
              <p:spPr>
                <a:xfrm flipV="1">
                  <a:off x="6172200" y="1828080"/>
                  <a:ext cx="380880" cy="152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6172200" y="190476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6553080" y="190476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144" name=""/>
                <p:cNvCxnSpPr>
                  <a:stCxn id="142" idx="0"/>
                  <a:endCxn id="143" idx="0"/>
                </p:cNvCxnSpPr>
                <p:nvPr/>
              </p:nvCxnSpPr>
              <p:spPr>
                <a:xfrm flipH="1" rot="16200000">
                  <a:off x="6361920" y="2019600"/>
                  <a:ext cx="2160" cy="381600"/>
                </a:xfrm>
                <a:prstGeom prst="curvedConnector5">
                  <a:avLst>
                    <a:gd name="adj1" fmla="val 4380000"/>
                    <a:gd name="adj2" fmla="val 49952"/>
                    <a:gd name="adj3" fmla="val 4380000"/>
                  </a:avLst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</p:grpSp>
          <p:grpSp>
            <p:nvGrpSpPr>
              <p:cNvPr id="145" name=""/>
              <p:cNvGrpSpPr/>
              <p:nvPr/>
            </p:nvGrpSpPr>
            <p:grpSpPr>
              <a:xfrm>
                <a:off x="6705360" y="1752120"/>
                <a:ext cx="381240" cy="460080"/>
                <a:chOff x="6705360" y="1752120"/>
                <a:chExt cx="381240" cy="460080"/>
              </a:xfrm>
            </p:grpSpPr>
            <p:sp>
              <p:nvSpPr>
                <p:cNvPr id="146" name=""/>
                <p:cNvSpPr/>
                <p:nvPr/>
              </p:nvSpPr>
              <p:spPr>
                <a:xfrm flipV="1">
                  <a:off x="6705360" y="1751760"/>
                  <a:ext cx="380880" cy="152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705360" y="182844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086240" y="182844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149" name=""/>
                <p:cNvCxnSpPr>
                  <a:stCxn id="147" idx="0"/>
                  <a:endCxn id="148" idx="0"/>
                </p:cNvCxnSpPr>
                <p:nvPr/>
              </p:nvCxnSpPr>
              <p:spPr>
                <a:xfrm flipH="1" rot="16200000">
                  <a:off x="6895080" y="1943280"/>
                  <a:ext cx="2160" cy="381600"/>
                </a:xfrm>
                <a:prstGeom prst="curvedConnector5">
                  <a:avLst>
                    <a:gd name="adj1" fmla="val 4380000"/>
                    <a:gd name="adj2" fmla="val 49952"/>
                    <a:gd name="adj3" fmla="val 4380000"/>
                  </a:avLst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</p:grpSp>
          <p:grpSp>
            <p:nvGrpSpPr>
              <p:cNvPr id="150" name=""/>
              <p:cNvGrpSpPr/>
              <p:nvPr/>
            </p:nvGrpSpPr>
            <p:grpSpPr>
              <a:xfrm>
                <a:off x="7238880" y="1828440"/>
                <a:ext cx="381240" cy="460080"/>
                <a:chOff x="7238880" y="1828440"/>
                <a:chExt cx="381240" cy="460080"/>
              </a:xfrm>
            </p:grpSpPr>
            <p:sp>
              <p:nvSpPr>
                <p:cNvPr id="151" name=""/>
                <p:cNvSpPr/>
                <p:nvPr/>
              </p:nvSpPr>
              <p:spPr>
                <a:xfrm flipV="1">
                  <a:off x="7238880" y="1828080"/>
                  <a:ext cx="380880" cy="152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238880" y="190476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619760" y="190476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154" name=""/>
                <p:cNvCxnSpPr>
                  <a:stCxn id="152" idx="0"/>
                  <a:endCxn id="153" idx="0"/>
                </p:cNvCxnSpPr>
                <p:nvPr/>
              </p:nvCxnSpPr>
              <p:spPr>
                <a:xfrm flipH="1" rot="16200000">
                  <a:off x="7428600" y="2019600"/>
                  <a:ext cx="2160" cy="381600"/>
                </a:xfrm>
                <a:prstGeom prst="curvedConnector5">
                  <a:avLst>
                    <a:gd name="adj1" fmla="val 4380000"/>
                    <a:gd name="adj2" fmla="val 49952"/>
                    <a:gd name="adj3" fmla="val 4380000"/>
                  </a:avLst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</p:grpSp>
          <p:cxnSp>
            <p:nvCxnSpPr>
              <p:cNvPr id="155" name=""/>
              <p:cNvCxnSpPr>
                <a:stCxn id="133" idx="1"/>
                <a:endCxn id="127" idx="0"/>
              </p:cNvCxnSpPr>
              <p:nvPr/>
            </p:nvCxnSpPr>
            <p:spPr>
              <a:xfrm>
                <a:off x="6019560" y="2361600"/>
                <a:ext cx="534240" cy="3819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56" name=""/>
              <p:cNvCxnSpPr>
                <a:stCxn id="148" idx="1"/>
                <a:endCxn id="126" idx="0"/>
              </p:cNvCxnSpPr>
              <p:nvPr/>
            </p:nvCxnSpPr>
            <p:spPr>
              <a:xfrm flipH="1">
                <a:off x="6895440" y="2133360"/>
                <a:ext cx="191160" cy="534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57" name=""/>
              <p:cNvCxnSpPr>
                <a:stCxn id="143" idx="1"/>
                <a:endCxn id="126" idx="1"/>
              </p:cNvCxnSpPr>
              <p:nvPr/>
            </p:nvCxnSpPr>
            <p:spPr>
              <a:xfrm>
                <a:off x="6553080" y="2209680"/>
                <a:ext cx="100800" cy="480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58" name=""/>
              <p:cNvCxnSpPr>
                <a:stCxn id="153" idx="1"/>
                <a:endCxn id="126" idx="7"/>
              </p:cNvCxnSpPr>
              <p:nvPr/>
            </p:nvCxnSpPr>
            <p:spPr>
              <a:xfrm flipH="1">
                <a:off x="7138440" y="2209680"/>
                <a:ext cx="481680" cy="480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59" name=""/>
              <p:cNvCxnSpPr>
                <a:stCxn id="137" idx="1"/>
                <a:endCxn id="128" idx="0"/>
              </p:cNvCxnSpPr>
              <p:nvPr/>
            </p:nvCxnSpPr>
            <p:spPr>
              <a:xfrm flipH="1">
                <a:off x="7238520" y="2361600"/>
                <a:ext cx="534240" cy="3819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</p:grpSp>
        <p:grpSp>
          <p:nvGrpSpPr>
            <p:cNvPr id="160" name=""/>
            <p:cNvGrpSpPr/>
            <p:nvPr/>
          </p:nvGrpSpPr>
          <p:grpSpPr>
            <a:xfrm>
              <a:off x="2438280" y="1752120"/>
              <a:ext cx="2514960" cy="1495440"/>
              <a:chOff x="2438280" y="1752120"/>
              <a:chExt cx="2514960" cy="1495440"/>
            </a:xfrm>
          </p:grpSpPr>
          <p:grpSp>
            <p:nvGrpSpPr>
              <p:cNvPr id="161" name=""/>
              <p:cNvGrpSpPr/>
              <p:nvPr/>
            </p:nvGrpSpPr>
            <p:grpSpPr>
              <a:xfrm>
                <a:off x="3351600" y="2666880"/>
                <a:ext cx="686880" cy="580680"/>
                <a:chOff x="3351600" y="2666880"/>
                <a:chExt cx="686880" cy="580680"/>
              </a:xfrm>
            </p:grpSpPr>
            <p:sp>
              <p:nvSpPr>
                <p:cNvPr id="162" name=""/>
                <p:cNvSpPr/>
                <p:nvPr/>
              </p:nvSpPr>
              <p:spPr>
                <a:xfrm>
                  <a:off x="3352680" y="2666880"/>
                  <a:ext cx="685800" cy="152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3352680" y="2742840"/>
                  <a:ext cx="0" cy="380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038480" y="2742840"/>
                  <a:ext cx="0" cy="380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165" name=""/>
                <p:cNvCxnSpPr>
                  <a:stCxn id="163" idx="0"/>
                  <a:endCxn id="164" idx="0"/>
                </p:cNvCxnSpPr>
                <p:nvPr/>
              </p:nvCxnSpPr>
              <p:spPr>
                <a:xfrm flipH="1" rot="16200000">
                  <a:off x="3693960" y="2781360"/>
                  <a:ext cx="2160" cy="686520"/>
                </a:xfrm>
                <a:prstGeom prst="curvedConnector5">
                  <a:avLst>
                    <a:gd name="adj1" fmla="val 6880000"/>
                    <a:gd name="adj2" fmla="val 50000"/>
                    <a:gd name="adj3" fmla="val 6880000"/>
                  </a:avLst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</p:grpSp>
          <p:grpSp>
            <p:nvGrpSpPr>
              <p:cNvPr id="166" name=""/>
              <p:cNvGrpSpPr/>
              <p:nvPr/>
            </p:nvGrpSpPr>
            <p:grpSpPr>
              <a:xfrm>
                <a:off x="2438280" y="1980720"/>
                <a:ext cx="381240" cy="460080"/>
                <a:chOff x="2438280" y="1980720"/>
                <a:chExt cx="381240" cy="460080"/>
              </a:xfrm>
            </p:grpSpPr>
            <p:sp>
              <p:nvSpPr>
                <p:cNvPr id="167" name=""/>
                <p:cNvSpPr/>
                <p:nvPr/>
              </p:nvSpPr>
              <p:spPr>
                <a:xfrm flipV="1">
                  <a:off x="2438280" y="1980360"/>
                  <a:ext cx="380880" cy="152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2438280" y="205704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2819160" y="205704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170" name=""/>
                <p:cNvCxnSpPr>
                  <a:stCxn id="168" idx="0"/>
                  <a:endCxn id="169" idx="0"/>
                </p:cNvCxnSpPr>
                <p:nvPr/>
              </p:nvCxnSpPr>
              <p:spPr>
                <a:xfrm flipH="1" rot="16200000">
                  <a:off x="2628000" y="2171880"/>
                  <a:ext cx="2160" cy="381600"/>
                </a:xfrm>
                <a:prstGeom prst="curvedConnector5">
                  <a:avLst>
                    <a:gd name="adj1" fmla="val 4380000"/>
                    <a:gd name="adj2" fmla="val 49952"/>
                    <a:gd name="adj3" fmla="val 4380000"/>
                  </a:avLst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</p:grpSp>
          <p:grpSp>
            <p:nvGrpSpPr>
              <p:cNvPr id="171" name=""/>
              <p:cNvGrpSpPr/>
              <p:nvPr/>
            </p:nvGrpSpPr>
            <p:grpSpPr>
              <a:xfrm>
                <a:off x="4572000" y="1980720"/>
                <a:ext cx="381240" cy="460080"/>
                <a:chOff x="4572000" y="1980720"/>
                <a:chExt cx="381240" cy="460080"/>
              </a:xfrm>
            </p:grpSpPr>
            <p:sp>
              <p:nvSpPr>
                <p:cNvPr id="172" name=""/>
                <p:cNvSpPr/>
                <p:nvPr/>
              </p:nvSpPr>
              <p:spPr>
                <a:xfrm flipV="1">
                  <a:off x="4572000" y="1980360"/>
                  <a:ext cx="380880" cy="152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4572000" y="205704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4952880" y="205704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175" name=""/>
                <p:cNvCxnSpPr>
                  <a:stCxn id="173" idx="0"/>
                  <a:endCxn id="174" idx="0"/>
                </p:cNvCxnSpPr>
                <p:nvPr/>
              </p:nvCxnSpPr>
              <p:spPr>
                <a:xfrm flipH="1" rot="16200000">
                  <a:off x="4761720" y="2171880"/>
                  <a:ext cx="2160" cy="381600"/>
                </a:xfrm>
                <a:prstGeom prst="curvedConnector5">
                  <a:avLst>
                    <a:gd name="adj1" fmla="val 4380000"/>
                    <a:gd name="adj2" fmla="val 49952"/>
                    <a:gd name="adj3" fmla="val 4380000"/>
                  </a:avLst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</p:grpSp>
          <p:grpSp>
            <p:nvGrpSpPr>
              <p:cNvPr id="176" name=""/>
              <p:cNvGrpSpPr/>
              <p:nvPr/>
            </p:nvGrpSpPr>
            <p:grpSpPr>
              <a:xfrm>
                <a:off x="2971800" y="1828440"/>
                <a:ext cx="381240" cy="460080"/>
                <a:chOff x="2971800" y="1828440"/>
                <a:chExt cx="381240" cy="460080"/>
              </a:xfrm>
            </p:grpSpPr>
            <p:sp>
              <p:nvSpPr>
                <p:cNvPr id="177" name=""/>
                <p:cNvSpPr/>
                <p:nvPr/>
              </p:nvSpPr>
              <p:spPr>
                <a:xfrm flipV="1">
                  <a:off x="2971800" y="1828080"/>
                  <a:ext cx="380880" cy="152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2971800" y="190476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3352680" y="190476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180" name=""/>
                <p:cNvCxnSpPr>
                  <a:stCxn id="178" idx="0"/>
                  <a:endCxn id="179" idx="0"/>
                </p:cNvCxnSpPr>
                <p:nvPr/>
              </p:nvCxnSpPr>
              <p:spPr>
                <a:xfrm flipH="1" rot="16200000">
                  <a:off x="3161520" y="2019600"/>
                  <a:ext cx="2160" cy="381600"/>
                </a:xfrm>
                <a:prstGeom prst="curvedConnector5">
                  <a:avLst>
                    <a:gd name="adj1" fmla="val 4380000"/>
                    <a:gd name="adj2" fmla="val 49952"/>
                    <a:gd name="adj3" fmla="val 4380000"/>
                  </a:avLst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</p:grpSp>
          <p:grpSp>
            <p:nvGrpSpPr>
              <p:cNvPr id="181" name=""/>
              <p:cNvGrpSpPr/>
              <p:nvPr/>
            </p:nvGrpSpPr>
            <p:grpSpPr>
              <a:xfrm>
                <a:off x="3504960" y="1752120"/>
                <a:ext cx="381240" cy="460080"/>
                <a:chOff x="3504960" y="1752120"/>
                <a:chExt cx="381240" cy="460080"/>
              </a:xfrm>
            </p:grpSpPr>
            <p:sp>
              <p:nvSpPr>
                <p:cNvPr id="182" name=""/>
                <p:cNvSpPr/>
                <p:nvPr/>
              </p:nvSpPr>
              <p:spPr>
                <a:xfrm flipV="1">
                  <a:off x="3504960" y="1751760"/>
                  <a:ext cx="380880" cy="152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3504960" y="182844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3885840" y="182844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185" name=""/>
                <p:cNvCxnSpPr>
                  <a:stCxn id="183" idx="0"/>
                  <a:endCxn id="184" idx="0"/>
                </p:cNvCxnSpPr>
                <p:nvPr/>
              </p:nvCxnSpPr>
              <p:spPr>
                <a:xfrm flipH="1" rot="16200000">
                  <a:off x="3694680" y="1943280"/>
                  <a:ext cx="2160" cy="381600"/>
                </a:xfrm>
                <a:prstGeom prst="curvedConnector5">
                  <a:avLst>
                    <a:gd name="adj1" fmla="val 4380000"/>
                    <a:gd name="adj2" fmla="val 49952"/>
                    <a:gd name="adj3" fmla="val 4380000"/>
                  </a:avLst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</p:grpSp>
          <p:grpSp>
            <p:nvGrpSpPr>
              <p:cNvPr id="186" name=""/>
              <p:cNvGrpSpPr/>
              <p:nvPr/>
            </p:nvGrpSpPr>
            <p:grpSpPr>
              <a:xfrm>
                <a:off x="4038480" y="1828440"/>
                <a:ext cx="381240" cy="460080"/>
                <a:chOff x="4038480" y="1828440"/>
                <a:chExt cx="381240" cy="460080"/>
              </a:xfrm>
            </p:grpSpPr>
            <p:sp>
              <p:nvSpPr>
                <p:cNvPr id="187" name=""/>
                <p:cNvSpPr/>
                <p:nvPr/>
              </p:nvSpPr>
              <p:spPr>
                <a:xfrm flipV="1">
                  <a:off x="4038480" y="1828080"/>
                  <a:ext cx="380880" cy="152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4038480" y="190476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4419360" y="190476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190" name=""/>
                <p:cNvCxnSpPr>
                  <a:stCxn id="188" idx="0"/>
                  <a:endCxn id="189" idx="0"/>
                </p:cNvCxnSpPr>
                <p:nvPr/>
              </p:nvCxnSpPr>
              <p:spPr>
                <a:xfrm flipH="1" rot="16200000">
                  <a:off x="4228200" y="2019600"/>
                  <a:ext cx="2160" cy="381600"/>
                </a:xfrm>
                <a:prstGeom prst="curvedConnector5">
                  <a:avLst>
                    <a:gd name="adj1" fmla="val 4380000"/>
                    <a:gd name="adj2" fmla="val 49952"/>
                    <a:gd name="adj3" fmla="val 4380000"/>
                  </a:avLst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</p:grpSp>
          <p:cxnSp>
            <p:nvCxnSpPr>
              <p:cNvPr id="191" name=""/>
              <p:cNvCxnSpPr>
                <a:stCxn id="169" idx="1"/>
                <a:endCxn id="163" idx="0"/>
              </p:cNvCxnSpPr>
              <p:nvPr/>
            </p:nvCxnSpPr>
            <p:spPr>
              <a:xfrm>
                <a:off x="2819160" y="2361600"/>
                <a:ext cx="534240" cy="3819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92" name=""/>
              <p:cNvCxnSpPr>
                <a:stCxn id="184" idx="1"/>
                <a:endCxn id="162" idx="0"/>
              </p:cNvCxnSpPr>
              <p:nvPr/>
            </p:nvCxnSpPr>
            <p:spPr>
              <a:xfrm flipH="1">
                <a:off x="3695040" y="2133360"/>
                <a:ext cx="191160" cy="534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93" name=""/>
              <p:cNvCxnSpPr>
                <a:stCxn id="179" idx="1"/>
                <a:endCxn id="162" idx="1"/>
              </p:cNvCxnSpPr>
              <p:nvPr/>
            </p:nvCxnSpPr>
            <p:spPr>
              <a:xfrm>
                <a:off x="3352680" y="2209680"/>
                <a:ext cx="100800" cy="480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94" name=""/>
              <p:cNvCxnSpPr>
                <a:stCxn id="189" idx="1"/>
                <a:endCxn id="162" idx="7"/>
              </p:cNvCxnSpPr>
              <p:nvPr/>
            </p:nvCxnSpPr>
            <p:spPr>
              <a:xfrm flipH="1">
                <a:off x="3938040" y="2209680"/>
                <a:ext cx="481680" cy="480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95" name=""/>
              <p:cNvCxnSpPr>
                <a:stCxn id="173" idx="1"/>
                <a:endCxn id="164" idx="0"/>
              </p:cNvCxnSpPr>
              <p:nvPr/>
            </p:nvCxnSpPr>
            <p:spPr>
              <a:xfrm flipH="1">
                <a:off x="4038120" y="2361600"/>
                <a:ext cx="534240" cy="3819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</p:grpSp>
        <p:grpSp>
          <p:nvGrpSpPr>
            <p:cNvPr id="196" name=""/>
            <p:cNvGrpSpPr/>
            <p:nvPr/>
          </p:nvGrpSpPr>
          <p:grpSpPr>
            <a:xfrm>
              <a:off x="3809880" y="3771720"/>
              <a:ext cx="2895480" cy="1981080"/>
              <a:chOff x="3809880" y="3771720"/>
              <a:chExt cx="2895480" cy="1981080"/>
            </a:xfrm>
          </p:grpSpPr>
          <p:sp>
            <p:nvSpPr>
              <p:cNvPr id="197" name=""/>
              <p:cNvSpPr/>
              <p:nvPr/>
            </p:nvSpPr>
            <p:spPr>
              <a:xfrm>
                <a:off x="4267080" y="3771720"/>
                <a:ext cx="1752480" cy="228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4267080" y="392400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6019560" y="392400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00" name=""/>
              <p:cNvCxnSpPr>
                <a:stCxn id="198" idx="0"/>
                <a:endCxn id="199" idx="0"/>
              </p:cNvCxnSpPr>
              <p:nvPr/>
            </p:nvCxnSpPr>
            <p:spPr>
              <a:xfrm flipH="1" rot="16200000">
                <a:off x="5142600" y="3657960"/>
                <a:ext cx="2160" cy="1753200"/>
              </a:xfrm>
              <a:prstGeom prst="curvedConnector5">
                <a:avLst>
                  <a:gd name="adj1" fmla="val 13380000"/>
                  <a:gd name="adj2" fmla="val 49989"/>
                  <a:gd name="adj3" fmla="val 13380000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grpSp>
            <p:nvGrpSpPr>
              <p:cNvPr id="201" name=""/>
              <p:cNvGrpSpPr/>
              <p:nvPr/>
            </p:nvGrpSpPr>
            <p:grpSpPr>
              <a:xfrm>
                <a:off x="3809880" y="5295600"/>
                <a:ext cx="457200" cy="457200"/>
                <a:chOff x="3809880" y="5295600"/>
                <a:chExt cx="457200" cy="45720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3809880" y="5295600"/>
                  <a:ext cx="380880" cy="3808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3962160" y="5676480"/>
                  <a:ext cx="30492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4" name=""/>
              <p:cNvGrpSpPr/>
              <p:nvPr/>
            </p:nvGrpSpPr>
            <p:grpSpPr>
              <a:xfrm>
                <a:off x="4419360" y="5295600"/>
                <a:ext cx="457200" cy="457200"/>
                <a:chOff x="4419360" y="5295600"/>
                <a:chExt cx="457200" cy="45720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4419360" y="5295600"/>
                  <a:ext cx="380880" cy="3808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4571640" y="5676480"/>
                  <a:ext cx="30492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7" name=""/>
              <p:cNvGrpSpPr/>
              <p:nvPr/>
            </p:nvGrpSpPr>
            <p:grpSpPr>
              <a:xfrm>
                <a:off x="5029200" y="5295600"/>
                <a:ext cx="457200" cy="457200"/>
                <a:chOff x="5029200" y="5295600"/>
                <a:chExt cx="457200" cy="45720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5029200" y="5295600"/>
                  <a:ext cx="380880" cy="3808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5181480" y="5676480"/>
                  <a:ext cx="30492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638680" y="5295600"/>
                <a:ext cx="457200" cy="457200"/>
                <a:chOff x="5638680" y="5295600"/>
                <a:chExt cx="457200" cy="4572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5638680" y="5295600"/>
                  <a:ext cx="380880" cy="3808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790960" y="5676480"/>
                  <a:ext cx="30492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6248160" y="5295600"/>
                <a:ext cx="457200" cy="457200"/>
                <a:chOff x="6248160" y="5295600"/>
                <a:chExt cx="457200" cy="457200"/>
              </a:xfrm>
            </p:grpSpPr>
            <p:sp>
              <p:nvSpPr>
                <p:cNvPr id="214" name=""/>
                <p:cNvSpPr/>
                <p:nvPr/>
              </p:nvSpPr>
              <p:spPr>
                <a:xfrm>
                  <a:off x="6248160" y="5295600"/>
                  <a:ext cx="380880" cy="3808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400440" y="5676480"/>
                  <a:ext cx="30492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 flipH="1">
                <a:off x="4038120" y="4762440"/>
                <a:ext cx="114300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flipH="1">
                <a:off x="4647960" y="4762440"/>
                <a:ext cx="53352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181480" y="4762440"/>
                <a:ext cx="7632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5181480" y="4762440"/>
                <a:ext cx="60948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5181480" y="4762440"/>
                <a:ext cx="121932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1" name=""/>
            <p:cNvSpPr/>
            <p:nvPr/>
          </p:nvSpPr>
          <p:spPr>
            <a:xfrm>
              <a:off x="3733920" y="3238200"/>
              <a:ext cx="121896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5333760" y="3238200"/>
              <a:ext cx="152388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307440" y="2971800"/>
            <a:ext cx="91188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Meta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371600" y="304920"/>
            <a:ext cx="609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굴림"/>
              </a:rPr>
              <a:t>데이터웨어하우스의 구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238880" y="1143000"/>
            <a:ext cx="175284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nthly s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y product 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981-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238880" y="2666880"/>
            <a:ext cx="175284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weekly sales b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subproduct 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1984-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5880" y="3962520"/>
            <a:ext cx="1752840" cy="48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sales deta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1990-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705720" y="5257800"/>
            <a:ext cx="1752480" cy="48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les deta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984-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276720" y="3962520"/>
            <a:ext cx="990360" cy="48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cur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deta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981080" y="2666880"/>
            <a:ext cx="152424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light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summariz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(datamar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048120" y="5257800"/>
            <a:ext cx="761760" cy="48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ta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66680" y="1905120"/>
            <a:ext cx="1524240" cy="48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mmariz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219320" y="5029200"/>
            <a:ext cx="1676160" cy="48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per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trans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2438280" y="4419720"/>
            <a:ext cx="213372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AD51-20B8-4218-B0E8-1EFF0A4EC619}" type="slidenum">
              <a:t>1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ark@cs.sungshin.ac.k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데이터웨어하우스 구축과정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한번에 한 단계씩 설계되고 구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0000"/>
                </a:solidFill>
                <a:latin typeface="Arial"/>
              </a:rPr>
              <a:t>점증적인 반복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ko-KR" sz="2400" spc="-1" strike="noStrike">
                <a:solidFill>
                  <a:srgbClr val="ff0000"/>
                </a:solidFill>
                <a:latin typeface="Arial"/>
              </a:rPr>
              <a:t>과정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을 통해 완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첫째날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운영 활동 처리를 위한 시스템들만 존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둘째날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ko-KR" sz="2000" spc="-1" strike="noStrike">
                <a:solidFill>
                  <a:srgbClr val="3333cc"/>
                </a:solidFill>
                <a:latin typeface="Arial"/>
              </a:rPr>
              <a:t>DW</a:t>
            </a:r>
            <a:r>
              <a:rPr b="0" lang="ko-KR" sz="2000" spc="-1" strike="noStrike">
                <a:solidFill>
                  <a:srgbClr val="3333cc"/>
                </a:solidFill>
                <a:latin typeface="Arial"/>
              </a:rPr>
              <a:t>의 첫번째 주제영역에 대한 몇몇 테이블 생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셋째날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더 많은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DW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들이 생성되고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사용자들도 증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네째날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: DW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가 점점 확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, DW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는 분석적 처리를 위한 데이터 원천으로 인식 시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다섯째날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부서별 데이터베이스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데이터마트 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OLAP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가 활성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여섯째날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많은 부서별 시스템이 구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번째날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아키텍쳐가 완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몇 년은 일반적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일째부터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일째까지의 이동 과정 동안에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DSS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환경이 성숙되고 발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D86B-9861-4D86-ACFD-FD313C837F2D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ark@cs.sungshin.ac.k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2_10" descr=""/>
          <p:cNvPicPr/>
          <p:nvPr/>
        </p:nvPicPr>
        <p:blipFill>
          <a:blip r:embed="rId1"/>
          <a:stretch/>
        </p:blipFill>
        <p:spPr>
          <a:xfrm>
            <a:off x="1295280" y="1219320"/>
            <a:ext cx="6400800" cy="533376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데이터웨어하우스 구축과정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(1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일 –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n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일까지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C4E9-CC30-40CA-A184-1A6095E20C7A}" type="slidenum">
              <a:t>1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ark@cs.sungshin.ac.k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데이터웨어하우스 설계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7720" y="12949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Star Jo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Database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설계에서는 모든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entity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는 같다고 가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DW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에서는 “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entity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는 결코 대등하지 않다”에서 출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3333cc"/>
                </a:solidFill>
                <a:latin typeface="Arial"/>
              </a:rPr>
              <a:t>Fact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대량의 데이터를 포함하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ent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Jo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의 중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주위의 테이블을 참조할 수 있는 외래키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(foreign key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를 가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3333cc"/>
                </a:solidFill>
                <a:latin typeface="Arial"/>
              </a:rPr>
              <a:t>Dimension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주위의 엔터티들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테이블들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스타 조인 생성의 이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DSS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처리 과정에서 데이터를 능률적으로 처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데이터를 미리 연결하고 선택적으로 중복 데이터를 생성하여 데이터 액세스와 분석을 더욱 간단하고 효율적으로 할 수 있게 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D0D9-8B28-4104-9D73-6B07DB754DC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ark@cs.sungshin.ac.k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KDD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7720" y="1294920"/>
            <a:ext cx="8077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Knowledge Discovery in 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2000" spc="-1" strike="noStrike">
                <a:solidFill>
                  <a:srgbClr val="000000"/>
                </a:solidFill>
                <a:latin typeface="Arial"/>
              </a:rPr>
              <a:t>데이터베이스에서 지식 탐사는 데이터에서 유효하고</a:t>
            </a:r>
            <a:r>
              <a:rPr b="0" i="1" lang="ko-KR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ko-KR" sz="2000" spc="-1" strike="noStrike">
                <a:solidFill>
                  <a:srgbClr val="000000"/>
                </a:solidFill>
                <a:latin typeface="Arial"/>
              </a:rPr>
              <a:t>귀하고</a:t>
            </a:r>
            <a:r>
              <a:rPr b="0" i="1" lang="ko-KR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ko-KR" sz="2000" spc="-1" strike="noStrike">
                <a:solidFill>
                  <a:srgbClr val="000000"/>
                </a:solidFill>
                <a:latin typeface="Arial"/>
              </a:rPr>
              <a:t>잠재적으로 유용하고</a:t>
            </a:r>
            <a:r>
              <a:rPr b="0" i="1" lang="ko-KR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ko-KR" sz="2000" spc="-1" strike="noStrike">
                <a:solidFill>
                  <a:srgbClr val="000000"/>
                </a:solidFill>
                <a:latin typeface="Arial"/>
              </a:rPr>
              <a:t>궁극적으로 이해될 수 있는 </a:t>
            </a:r>
            <a:r>
              <a:rPr b="1" i="1" lang="ko-KR" sz="2000" spc="-1" strike="noStrike">
                <a:solidFill>
                  <a:srgbClr val="ff0000"/>
                </a:solidFill>
                <a:latin typeface="Arial"/>
              </a:rPr>
              <a:t>패턴</a:t>
            </a:r>
            <a:r>
              <a:rPr b="0" i="1" lang="ko-KR" sz="2000" spc="-1" strike="noStrike">
                <a:solidFill>
                  <a:srgbClr val="000000"/>
                </a:solidFill>
                <a:latin typeface="Arial"/>
              </a:rPr>
              <a:t>을 알아내는 쉽지않은 과정이다</a:t>
            </a:r>
            <a:r>
              <a:rPr b="0" i="1" lang="ko-K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전체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KDD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과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데이터 마이닝 과정의 적용 영역과 목표의 이해를 밝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목적 데이터 집합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(target data set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을 선택하거나 얻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데이터 청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사전처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그리고 변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모델 개발과 가설 설정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0000"/>
                </a:solidFill>
                <a:latin typeface="Arial"/>
              </a:rPr>
              <a:t>적절한 데이터 마이닝 알고리즘의 선택</a:t>
            </a:r>
            <a:r>
              <a:rPr b="1" lang="ko-K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결과 해석 및 시각화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결과 검사 및 검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3333cc"/>
                </a:solidFill>
                <a:latin typeface="Arial"/>
              </a:rPr>
              <a:t>발견된 지식을 사용하고 관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5381-FA7C-45D5-9407-F01321E4EF20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ark@cs.sungshin.ac.k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82440" y="692280"/>
            <a:ext cx="1282680" cy="7491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940440" y="5873760"/>
            <a:ext cx="2044800" cy="596880"/>
          </a:xfrm>
          <a:prstGeom prst="rect">
            <a:avLst/>
          </a:prstGeom>
          <a:solidFill>
            <a:srgbClr val="e8e8e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35720" y="760320"/>
            <a:ext cx="1151280" cy="6411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돋움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956320" y="1157400"/>
            <a:ext cx="2064240" cy="519120"/>
          </a:xfrm>
          <a:prstGeom prst="rect">
            <a:avLst/>
          </a:prstGeom>
          <a:solidFill>
            <a:srgbClr val="3333cc"/>
          </a:solidFill>
          <a:ln w="0">
            <a:noFill/>
          </a:ln>
          <a:effectLst>
            <a:outerShdw dist="107932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돋움"/>
              </a:rPr>
              <a:t>Target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310440" y="1303200"/>
            <a:ext cx="2382480" cy="945720"/>
          </a:xfrm>
          <a:prstGeom prst="rect">
            <a:avLst/>
          </a:prstGeom>
          <a:solidFill>
            <a:srgbClr val="3333cc"/>
          </a:solidFill>
          <a:ln w="12600">
            <a:solidFill>
              <a:srgbClr val="99ff99"/>
            </a:solidFill>
            <a:miter/>
          </a:ln>
          <a:effectLst>
            <a:outerShdw dist="107932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돋움"/>
              </a:rPr>
              <a:t>Preproces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돋움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돋움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354320" y="3665520"/>
            <a:ext cx="2202840" cy="945720"/>
          </a:xfrm>
          <a:prstGeom prst="rect">
            <a:avLst/>
          </a:prstGeom>
          <a:solidFill>
            <a:srgbClr val="33ccff"/>
          </a:solidFill>
          <a:ln w="12600">
            <a:solidFill>
              <a:srgbClr val="00ccff"/>
            </a:solidFill>
            <a:miter/>
          </a:ln>
          <a:effectLst>
            <a:outerShdw dist="107932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돋움"/>
              </a:rPr>
              <a:t>Transform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돋움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돋움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394240" y="3763800"/>
            <a:ext cx="2076480" cy="70200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cc"/>
                </a:solidFill>
                <a:latin typeface="Arial"/>
                <a:ea typeface="돋움"/>
              </a:rPr>
              <a:t>Patter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447920" y="1219320"/>
            <a:ext cx="1371600" cy="15228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011360" y="5867280"/>
            <a:ext cx="1945440" cy="51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Arial"/>
                <a:ea typeface="돋움"/>
              </a:rPr>
              <a:t>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181480" y="1523880"/>
            <a:ext cx="990720" cy="30492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2361960" y="2438280"/>
            <a:ext cx="5105160" cy="1143000"/>
          </a:xfrm>
          <a:prstGeom prst="line">
            <a:avLst/>
          </a:prstGeom>
          <a:ln w="25560">
            <a:solidFill>
              <a:srgbClr val="0099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733920" y="4191120"/>
            <a:ext cx="1523880" cy="0"/>
          </a:xfrm>
          <a:prstGeom prst="line">
            <a:avLst/>
          </a:prstGeom>
          <a:ln w="50760">
            <a:solidFill>
              <a:srgbClr val="0099ff"/>
            </a:solidFill>
            <a:miter/>
            <a:headEnd len="med" type="oval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4572000"/>
            <a:ext cx="1143000" cy="121932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507320" y="944640"/>
            <a:ext cx="1231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돋움"/>
              </a:rPr>
              <a:t>Se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933440" y="944640"/>
            <a:ext cx="1815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돋움"/>
              </a:rPr>
              <a:t>Preproces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14480" y="2697120"/>
            <a:ext cx="1897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돋움"/>
              </a:rPr>
              <a:t>Trans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871800" y="3794040"/>
            <a:ext cx="1081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돋움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돋움"/>
              </a:rPr>
              <a:t>M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305400" y="4754520"/>
            <a:ext cx="17546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돋움"/>
              </a:rPr>
              <a:t>Interpretation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돋움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821520" y="60480"/>
            <a:ext cx="7216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돋움"/>
              </a:rPr>
              <a:t>Overview of the steps constituting the KDD proces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8C17-5367-4178-8CC8-37E10B5B46A2}" type="slidenum">
              <a:t>1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ark@cs.sungshin.ac.k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Data Mining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관찰된 데이터로 부터 패턴이나 모델의 추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KDD</a:t>
            </a: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에서 한 단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Arial"/>
              </a:rPr>
              <a:t>데이터 마이닝 작업</a:t>
            </a:r>
            <a:r>
              <a:rPr b="1" lang="ko-KR" sz="2800" spc="-1" strike="noStrike">
                <a:solidFill>
                  <a:srgbClr val="000000"/>
                </a:solidFill>
                <a:latin typeface="Arial"/>
              </a:rPr>
              <a:t>(Data Mining Task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Data 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Predi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Reg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Class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3333cc"/>
                </a:solidFill>
                <a:latin typeface="Arial"/>
              </a:rPr>
              <a:t>Clust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0000"/>
                </a:solidFill>
                <a:latin typeface="Arial"/>
              </a:rPr>
              <a:t>Link Analysis (Associat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Model Visu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Exploratory Data Analysis (ED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AD5C-E3F1-4020-B1D3-CF82FE94CEDA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ark@cs.sungshin.ac.k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데이터웨어하우스 구축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방법론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90720" y="152388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의사결정 지원 시스템의 발전과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데이터웨어하우스 환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데이터웨어하우스와 설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9900"/>
                </a:solidFill>
                <a:latin typeface="Arial"/>
              </a:rPr>
              <a:t>데이터웨어하우스의 구체화 정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9900"/>
                </a:solidFill>
                <a:latin typeface="Arial"/>
              </a:rPr>
              <a:t>데이터웨어하우스와 기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KDD and Data M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DD48-35BB-4CB6-B5FA-EA4529076BF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ark@cs.sungshin.ac.k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807696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Types of Data-Mining Problems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77720" y="1715760"/>
            <a:ext cx="3214800" cy="380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Predi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Class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 Se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900240" y="1687680"/>
            <a:ext cx="4870440" cy="45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Knowledge Disco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iation Det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base Se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Clust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Association R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mar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su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m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D209-11D0-492E-A1DA-E1D4D6CD9FFB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ark@cs.sungshin.ac.k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1143360" y="304920"/>
            <a:ext cx="39661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  <a:ea typeface="돋움"/>
              </a:rPr>
              <a:t>Association Ru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22240" y="1127160"/>
            <a:ext cx="8016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돋움"/>
              </a:rPr>
              <a:t>Ex: the statement tha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돋움"/>
              </a:rPr>
              <a:t>90% of transactions that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돋움"/>
              </a:rPr>
              <a:t>bread and butt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돋움"/>
              </a:rPr>
              <a:t> also purchas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돋움"/>
              </a:rPr>
              <a:t>mil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돋움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1428480" y="2155680"/>
            <a:ext cx="5956920" cy="458280"/>
            <a:chOff x="1428480" y="2155680"/>
            <a:chExt cx="5956920" cy="458280"/>
          </a:xfrm>
        </p:grpSpPr>
        <p:sp>
          <p:nvSpPr>
            <p:cNvPr id="270" name=""/>
            <p:cNvSpPr/>
            <p:nvPr/>
          </p:nvSpPr>
          <p:spPr>
            <a:xfrm>
              <a:off x="1428480" y="2155680"/>
              <a:ext cx="2323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돋움"/>
                </a:rPr>
                <a:t>[</a:t>
              </a:r>
              <a:r>
                <a:rPr b="0" lang="en-US" sz="2400" spc="-1" strike="noStrike">
                  <a:solidFill>
                    <a:srgbClr val="009900"/>
                  </a:solidFill>
                  <a:latin typeface="Arial"/>
                  <a:ea typeface="돋움"/>
                </a:rPr>
                <a:t>Bread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돋움"/>
                </a:rPr>
                <a:t>], [</a:t>
              </a:r>
              <a:r>
                <a:rPr b="0" lang="en-US" sz="2400" spc="-1" strike="noStrike">
                  <a:solidFill>
                    <a:srgbClr val="009900"/>
                  </a:solidFill>
                  <a:latin typeface="Arial"/>
                  <a:ea typeface="돋움"/>
                </a:rPr>
                <a:t>Butter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돋움"/>
                </a:rPr>
                <a:t>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886200" y="2384280"/>
              <a:ext cx="533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554720" y="2155680"/>
              <a:ext cx="28306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돋움"/>
                </a:rPr>
                <a:t>[Milk] (12.5%, </a:t>
              </a:r>
              <a:r>
                <a:rPr b="0" lang="en-US" sz="2400" spc="-1" strike="noStrike">
                  <a:solidFill>
                    <a:srgbClr val="0000ff"/>
                  </a:solidFill>
                  <a:latin typeface="Arial"/>
                  <a:ea typeface="돋움"/>
                </a:rPr>
                <a:t>90%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돋움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1506240" y="3336840"/>
            <a:ext cx="6507360" cy="1357560"/>
            <a:chOff x="1506240" y="3336840"/>
            <a:chExt cx="6507360" cy="1357560"/>
          </a:xfrm>
        </p:grpSpPr>
        <p:sp>
          <p:nvSpPr>
            <p:cNvPr id="274" name=""/>
            <p:cNvSpPr/>
            <p:nvPr/>
          </p:nvSpPr>
          <p:spPr>
            <a:xfrm>
              <a:off x="1506240" y="3336840"/>
              <a:ext cx="63903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  <a:ea typeface="돋움"/>
                </a:rPr>
                <a:t>90%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돋움"/>
                </a:rPr>
                <a:t> : confidence factor of the rule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  <a:ea typeface="돋움"/>
                </a:rPr>
                <a:t>(not 100%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506960" y="3870360"/>
              <a:ext cx="65066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돋움"/>
                </a:rPr>
                <a:t>12.5%: support for the rule,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돋움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돋움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돋움"/>
                </a:rPr>
                <a:t>the fraction of transactions in databa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1886400" y="2697120"/>
            <a:ext cx="14454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돋움"/>
              </a:rPr>
              <a:t>anteced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162760" y="2697120"/>
            <a:ext cx="1503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돋움"/>
              </a:rPr>
              <a:t>consequ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966600" y="5089680"/>
            <a:ext cx="69076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돋움"/>
              </a:rPr>
              <a:t>Find all rules that have “Diet Coke” as consequ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돋움"/>
              </a:rPr>
              <a:t>Find all rules that have “bagels” in the anteced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돋움"/>
              </a:rPr>
              <a:t>Find the “best”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돋움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돋움"/>
              </a:rPr>
              <a:t> rules that have “bagels” in the consequ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1CDE-0EB3-4135-81C7-72B58526C90B}" type="slidenum">
              <a:t>2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ark@cs.sungshin.ac.k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81532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Arial"/>
              </a:rPr>
              <a:t>연관규칙의 정의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: a set of literals called ite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: a set of items such that T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, transa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association rule is an implication of the for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X 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where X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, Y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 and X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 = 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X 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upport, confide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1447920" y="4191120"/>
                <a:ext cx="670536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upport 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# of transactions containing all the items in </m:t>
                        </m:r>
                        <m:r>
                          <m:t xml:space="preserve">X</m:t>
                        </m:r>
                        <m:r>
                          <m:t xml:space="preserve">∪</m:t>
                        </m:r>
                        <m:r>
                          <m:t xml:space="preserve">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otal # of transactions in the database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1447920" y="5105520"/>
                <a:ext cx="624816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nfidence 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# of transactions that contain both 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 and </m:t>
                        </m:r>
                        <m:r>
                          <m:t xml:space="preserve">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# of transactions contaning 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8121-DA23-4A8E-8CC8-D0616BCF8E7F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ark@cs.sungshin.ac.k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Generalized Association Rules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07732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ing associations between items at any level of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xonom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ople who buy</a:t>
            </a:r>
            <a:r>
              <a:rPr b="1" lang="en-US" sz="1800" spc="-1" strike="noStrike">
                <a:solidFill>
                  <a:srgbClr val="ffcf01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33"/>
                </a:solidFill>
                <a:latin typeface="Arial"/>
              </a:rPr>
              <a:t>clothes</a:t>
            </a:r>
            <a:r>
              <a:rPr b="1" lang="en-US" sz="1800" spc="-1" strike="noStrike">
                <a:solidFill>
                  <a:srgbClr val="ffcf01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nd to buy shoes. (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ople who buy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outerwea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end to buy shoes. ( o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ople who buy</a:t>
            </a:r>
            <a:r>
              <a:rPr b="1" lang="en-US" sz="1800" spc="-1" strike="noStrike">
                <a:solidFill>
                  <a:srgbClr val="ffcf01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jacke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end to buy shoes. (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838080" y="3505320"/>
            <a:ext cx="7925040" cy="2743200"/>
            <a:chOff x="838080" y="3505320"/>
            <a:chExt cx="7925040" cy="2743200"/>
          </a:xfrm>
        </p:grpSpPr>
        <p:sp>
          <p:nvSpPr>
            <p:cNvPr id="286" name=""/>
            <p:cNvSpPr/>
            <p:nvPr/>
          </p:nvSpPr>
          <p:spPr>
            <a:xfrm>
              <a:off x="838080" y="3505320"/>
              <a:ext cx="7925040" cy="2743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7" name=""/>
            <p:cNvGrpSpPr/>
            <p:nvPr/>
          </p:nvGrpSpPr>
          <p:grpSpPr>
            <a:xfrm>
              <a:off x="990720" y="3576960"/>
              <a:ext cx="7696080" cy="2418480"/>
              <a:chOff x="990720" y="3576960"/>
              <a:chExt cx="7696080" cy="2418480"/>
            </a:xfrm>
          </p:grpSpPr>
          <p:sp>
            <p:nvSpPr>
              <p:cNvPr id="288" name=""/>
              <p:cNvSpPr/>
              <p:nvPr/>
            </p:nvSpPr>
            <p:spPr>
              <a:xfrm>
                <a:off x="2819520" y="3576960"/>
                <a:ext cx="114300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lothe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676520" y="4587480"/>
                <a:ext cx="152388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Outerwea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886200" y="4587480"/>
                <a:ext cx="106704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Shir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990720" y="5596560"/>
                <a:ext cx="152388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Jacke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2971800" y="5596560"/>
                <a:ext cx="152424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Ski Pa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5105520" y="4587480"/>
                <a:ext cx="99072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Shoe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6782040" y="4587480"/>
                <a:ext cx="190476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Hiking Boo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5867640" y="3647880"/>
                <a:ext cx="152388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Footwea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3353040" y="4010040"/>
                <a:ext cx="914400" cy="577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2514240" y="4010040"/>
                <a:ext cx="762120" cy="577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6553440" y="4082040"/>
                <a:ext cx="914400" cy="577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>
                <a:off x="5714640" y="4082040"/>
                <a:ext cx="762120" cy="577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514600" y="4948200"/>
                <a:ext cx="914400" cy="577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flipH="1">
                <a:off x="1676160" y="4948200"/>
                <a:ext cx="762120" cy="577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25F0-D0A6-423B-B55F-467B19C01C29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ark@cs.sungshin.ac.k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Cyclic Association Rules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37720" y="137160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Beer and chips are sold together primarily </a:t>
            </a:r>
            <a:r>
              <a:rPr b="0" i="1" lang="ko-KR" sz="2800" spc="-1" strike="noStrike">
                <a:solidFill>
                  <a:srgbClr val="ff0000"/>
                </a:solidFill>
                <a:latin typeface="Arial"/>
              </a:rPr>
              <a:t>between 6PM and 9PM</a:t>
            </a: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Association rules could also display regular hourly, daily, weekly, etc., variation that has the appearance of cyc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ff"/>
                </a:solidFill>
                <a:latin typeface="Arial"/>
              </a:rPr>
              <a:t>An association rule </a:t>
            </a:r>
            <a:r>
              <a:rPr b="0" i="1" lang="ko-KR" sz="2800" spc="-1" strike="noStrike">
                <a:solidFill>
                  <a:srgbClr val="0000ff"/>
                </a:solidFill>
                <a:latin typeface="Arial"/>
              </a:rPr>
              <a:t>X </a:t>
            </a:r>
            <a:r>
              <a:rPr b="0" i="1" lang="ko-KR" sz="28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0" i="1" lang="ko-KR" sz="2800" spc="-1" strike="noStrike">
                <a:solidFill>
                  <a:srgbClr val="0000ff"/>
                </a:solidFill>
                <a:latin typeface="Arial"/>
              </a:rPr>
              <a:t> Y</a:t>
            </a:r>
            <a:r>
              <a:rPr b="0" lang="ko-KR" sz="2800" spc="-1" strike="noStrike">
                <a:solidFill>
                  <a:srgbClr val="0000ff"/>
                </a:solidFill>
                <a:latin typeface="Arial"/>
              </a:rPr>
              <a:t> holds in time unit </a:t>
            </a:r>
            <a:r>
              <a:rPr b="0" i="1" lang="ko-KR" sz="2800" spc="-1" strike="noStrike">
                <a:solidFill>
                  <a:srgbClr val="0000ff"/>
                </a:solidFill>
                <a:latin typeface="Arial"/>
              </a:rPr>
              <a:t>t</a:t>
            </a:r>
            <a:r>
              <a:rPr b="0" i="1" lang="ko-KR" sz="2800" spc="-1" strike="noStrike" baseline="-25000">
                <a:solidFill>
                  <a:srgbClr val="0000ff"/>
                </a:solidFill>
                <a:latin typeface="Arial"/>
              </a:rPr>
              <a:t>i</a:t>
            </a: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if the support of </a:t>
            </a:r>
            <a:r>
              <a:rPr b="0" i="1" lang="ko-KR" sz="20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i="1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ko-KR" sz="2000" spc="-1" strike="noStrike">
                <a:solidFill>
                  <a:srgbClr val="000000"/>
                </a:solidFill>
                <a:latin typeface="Arial"/>
              </a:rPr>
              <a:t> Y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0" i="1" lang="ko-KR" sz="2000" spc="-1" strike="noStrike">
                <a:solidFill>
                  <a:srgbClr val="000000"/>
                </a:solidFill>
                <a:latin typeface="Arial"/>
              </a:rPr>
              <a:t>D[i]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 exceeds </a:t>
            </a:r>
            <a:r>
              <a:rPr b="0" i="1" lang="ko-KR" sz="2000" spc="-1" strike="noStrike">
                <a:solidFill>
                  <a:srgbClr val="000000"/>
                </a:solidFill>
                <a:latin typeface="Arial"/>
              </a:rPr>
              <a:t>MinSup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the confidence of </a:t>
            </a:r>
            <a:r>
              <a:rPr b="0" i="1" lang="ko-KR" sz="20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i="1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ko-KR" sz="2000" spc="-1" strike="noStrike">
                <a:solidFill>
                  <a:srgbClr val="000000"/>
                </a:solidFill>
                <a:latin typeface="Arial"/>
              </a:rPr>
              <a:t> Y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0" i="1" lang="ko-KR" sz="2000" spc="-1" strike="noStrike">
                <a:solidFill>
                  <a:srgbClr val="000000"/>
                </a:solidFill>
                <a:latin typeface="Arial"/>
              </a:rPr>
              <a:t>D[i]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 exceeds </a:t>
            </a:r>
            <a:r>
              <a:rPr b="0" i="1" lang="ko-KR" sz="2000" spc="-1" strike="noStrike">
                <a:solidFill>
                  <a:srgbClr val="000000"/>
                </a:solidFill>
                <a:latin typeface="Arial"/>
              </a:rPr>
              <a:t>MinConf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It has a cycle </a:t>
            </a:r>
            <a:r>
              <a:rPr b="0" i="1" lang="ko-KR" sz="2000" spc="-1" strike="noStrike">
                <a:solidFill>
                  <a:srgbClr val="000000"/>
                </a:solidFill>
                <a:latin typeface="Arial"/>
              </a:rPr>
              <a:t>c = (l, o),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 a length </a:t>
            </a:r>
            <a:r>
              <a:rPr b="0" i="1" lang="ko-KR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 and an offset</a:t>
            </a:r>
            <a:r>
              <a:rPr b="0" i="1" lang="ko-KR" sz="2000" spc="-1" strike="noStrike">
                <a:solidFill>
                  <a:srgbClr val="000000"/>
                </a:solidFill>
                <a:latin typeface="Arial"/>
              </a:rPr>
              <a:t> o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33"/>
                </a:solidFill>
                <a:latin typeface="Arial"/>
              </a:rPr>
              <a:t>“</a:t>
            </a:r>
            <a:r>
              <a:rPr b="0" i="1" lang="ko-KR" sz="2800" spc="-1" strike="noStrike">
                <a:solidFill>
                  <a:srgbClr val="ff0033"/>
                </a:solidFill>
                <a:latin typeface="Arial"/>
              </a:rPr>
              <a:t>coffee </a:t>
            </a:r>
            <a:r>
              <a:rPr b="0" i="1" lang="ko-KR" sz="2800" spc="-1" strike="noStrike">
                <a:solidFill>
                  <a:srgbClr val="ff0033"/>
                </a:solidFill>
                <a:latin typeface="Symbol"/>
                <a:ea typeface="Symbol"/>
              </a:rPr>
              <a:t></a:t>
            </a:r>
            <a:r>
              <a:rPr b="0" i="1" lang="ko-KR" sz="2800" spc="-1" strike="noStrike">
                <a:solidFill>
                  <a:srgbClr val="ff0033"/>
                </a:solidFill>
                <a:latin typeface="Arial"/>
              </a:rPr>
              <a:t> doughnuts” </a:t>
            </a:r>
            <a:r>
              <a:rPr b="0" lang="ko-KR" sz="2800" spc="-1" strike="noStrike">
                <a:solidFill>
                  <a:srgbClr val="ff0033"/>
                </a:solidFill>
                <a:latin typeface="Arial"/>
              </a:rPr>
              <a:t>has a cycle (24, 7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if the unit of time is an hour and “coffee </a:t>
            </a:r>
            <a:r>
              <a:rPr b="0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 doughnuts” holds during the interval 7AM-8AM everyday (I.e., every 24 hour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83F3-BE89-42DE-B9EA-B3D9E005982B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ark@cs.sungshin.ac.k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When is Market Basket Analysis useful?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ollowing three rules are examples of real rules generated from real dat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hursday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grocery store consumers often purchase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diapers and be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Arial"/>
              </a:rPr>
              <a:t>Useful ru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high quality, actionable inform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stomers who purchases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maintenance agre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e very likely to purchase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large applianc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ivial r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a new hardware store opens, one of the most commonly sold items is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oilet ring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explicable r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80A0-FE20-4880-A041-EC94B462D5A5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ark@cs.sungshin.ac.k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371600" y="190080"/>
            <a:ext cx="6477120" cy="80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Sequential Patterns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990360" y="1371600"/>
            <a:ext cx="784836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Examples of patter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Customers typically rent “Star Wars”, then “Empire Strikes Back”, and then “Return of the jedi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Note that these rentals need not to be consecu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수강신청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ko-KR" sz="2400" spc="-1" strike="noStrike">
                <a:solidFill>
                  <a:srgbClr val="ff0033"/>
                </a:solidFill>
                <a:latin typeface="Arial"/>
              </a:rPr>
              <a:t>관광과 여가</a:t>
            </a:r>
            <a:r>
              <a:rPr b="0" lang="ko-KR" sz="2400" spc="-1" strike="noStrike">
                <a:solidFill>
                  <a:srgbClr val="ff0033"/>
                </a:solidFill>
                <a:latin typeface="Arial"/>
              </a:rPr>
              <a:t>(1</a:t>
            </a:r>
            <a:r>
              <a:rPr b="0" lang="ko-KR" sz="2400" spc="-1" strike="noStrike">
                <a:solidFill>
                  <a:srgbClr val="ff0033"/>
                </a:solidFill>
                <a:latin typeface="Arial"/>
              </a:rPr>
              <a:t>학기</a:t>
            </a:r>
            <a:r>
              <a:rPr b="0" lang="ko-KR" sz="2400" spc="-1" strike="noStrike">
                <a:solidFill>
                  <a:srgbClr val="ff0033"/>
                </a:solidFill>
                <a:latin typeface="Arial"/>
              </a:rPr>
              <a:t>) </a:t>
            </a:r>
            <a:r>
              <a:rPr b="0" lang="ko-KR" sz="2400" spc="-1" strike="noStrike">
                <a:solidFill>
                  <a:srgbClr val="ff0033"/>
                </a:solidFill>
                <a:latin typeface="Symbol"/>
                <a:ea typeface="Symbol"/>
              </a:rPr>
              <a:t></a:t>
            </a:r>
            <a:r>
              <a:rPr b="0" lang="ko-KR" sz="2400" spc="-1" strike="noStrike">
                <a:solidFill>
                  <a:srgbClr val="ff0033"/>
                </a:solidFill>
                <a:latin typeface="Arial"/>
              </a:rPr>
              <a:t>수도권과 주택문제</a:t>
            </a:r>
            <a:r>
              <a:rPr b="0" lang="ko-KR" sz="2400" spc="-1" strike="noStrike">
                <a:solidFill>
                  <a:srgbClr val="ff0033"/>
                </a:solidFill>
                <a:latin typeface="Arial"/>
              </a:rPr>
              <a:t>(2</a:t>
            </a:r>
            <a:r>
              <a:rPr b="0" lang="ko-KR" sz="2400" spc="-1" strike="noStrike">
                <a:solidFill>
                  <a:srgbClr val="ff0033"/>
                </a:solidFill>
                <a:latin typeface="Arial"/>
              </a:rPr>
              <a:t>학기</a:t>
            </a:r>
            <a:r>
              <a:rPr b="0" lang="ko-KR" sz="2400" spc="-1" strike="noStrike">
                <a:solidFill>
                  <a:srgbClr val="ff0033"/>
                </a:solidFill>
                <a:latin typeface="Arial"/>
              </a:rPr>
              <a:t>) </a:t>
            </a:r>
            <a:r>
              <a:rPr b="0" lang="ko-KR" sz="2400" spc="-1" strike="noStrike">
                <a:solidFill>
                  <a:srgbClr val="ff0033"/>
                </a:solidFill>
                <a:latin typeface="Symbol"/>
                <a:ea typeface="Symbol"/>
              </a:rPr>
              <a:t></a:t>
            </a:r>
            <a:r>
              <a:rPr b="0" lang="ko-KR" sz="2400" spc="-1" strike="noStrike">
                <a:solidFill>
                  <a:srgbClr val="ff0033"/>
                </a:solidFill>
                <a:latin typeface="Arial"/>
              </a:rPr>
              <a:t>  </a:t>
            </a:r>
            <a:r>
              <a:rPr b="0" lang="ko-KR" sz="2400" spc="-1" strike="noStrike">
                <a:solidFill>
                  <a:srgbClr val="ff0033"/>
                </a:solidFill>
                <a:latin typeface="Arial"/>
              </a:rPr>
              <a:t>증권시장</a:t>
            </a:r>
            <a:r>
              <a:rPr b="0" lang="ko-KR" sz="2400" spc="-1" strike="noStrike">
                <a:solidFill>
                  <a:srgbClr val="ff0033"/>
                </a:solidFill>
                <a:latin typeface="Arial"/>
              </a:rPr>
              <a:t>(3</a:t>
            </a:r>
            <a:r>
              <a:rPr b="0" lang="ko-KR" sz="2400" spc="-1" strike="noStrike">
                <a:solidFill>
                  <a:srgbClr val="ff0033"/>
                </a:solidFill>
                <a:latin typeface="Arial"/>
              </a:rPr>
              <a:t>학기</a:t>
            </a:r>
            <a:r>
              <a:rPr b="0" lang="ko-KR" sz="2400" spc="-1" strike="noStrike">
                <a:solidFill>
                  <a:srgbClr val="ff00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주가 변동 패턴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ko-KR" sz="2400" spc="-1" strike="noStrike">
                <a:solidFill>
                  <a:srgbClr val="0000ff"/>
                </a:solidFill>
                <a:latin typeface="Arial"/>
              </a:rPr>
              <a:t>삼성전자 주가 상승 </a:t>
            </a:r>
            <a:r>
              <a:rPr b="0" lang="ko-KR" sz="24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0" lang="ko-KR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ko-KR" sz="2400" spc="-1" strike="noStrike">
                <a:solidFill>
                  <a:srgbClr val="0000ff"/>
                </a:solidFill>
                <a:latin typeface="Arial"/>
              </a:rPr>
              <a:t>LG</a:t>
            </a:r>
            <a:r>
              <a:rPr b="0" lang="ko-KR" sz="2400" spc="-1" strike="noStrike">
                <a:solidFill>
                  <a:srgbClr val="0000ff"/>
                </a:solidFill>
                <a:latin typeface="Arial"/>
              </a:rPr>
              <a:t>전자 주가 상승 </a:t>
            </a:r>
            <a:r>
              <a:rPr b="0" lang="ko-KR" sz="24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0" lang="ko-KR" sz="2400" spc="-1" strike="noStrike">
                <a:solidFill>
                  <a:srgbClr val="0000ff"/>
                </a:solidFill>
                <a:latin typeface="Arial"/>
              </a:rPr>
              <a:t> 보해양조 주가 상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구매패턴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양복 </a:t>
            </a:r>
            <a:r>
              <a:rPr b="0" lang="ko-KR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 와이셔츠 </a:t>
            </a:r>
            <a:r>
              <a:rPr b="0" lang="ko-KR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  검정색 구두 </a:t>
            </a:r>
            <a:r>
              <a:rPr b="0" lang="ko-KR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의료진단에서 질병 발생 순서 패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환자 치료에서 진료 및 투약 패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278A-2D9F-4489-9B57-6B974FA768C1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ark@cs.sungshin.ac.k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Mining Path Traversal Patterns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91440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Understanding </a:t>
            </a:r>
            <a:r>
              <a:rPr b="0" lang="ko-KR" sz="2800" spc="-1" strike="noStrike">
                <a:solidFill>
                  <a:srgbClr val="0000ff"/>
                </a:solidFill>
                <a:latin typeface="Arial"/>
              </a:rPr>
              <a:t>user access patterns</a:t>
            </a: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 in a </a:t>
            </a:r>
            <a:r>
              <a:rPr b="0" lang="ko-KR" sz="2800" spc="-1" strike="noStrike">
                <a:solidFill>
                  <a:srgbClr val="ff0066"/>
                </a:solidFill>
                <a:latin typeface="Arial"/>
              </a:rPr>
              <a:t>distributed information providing environment</a:t>
            </a: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 such as WWW, Hitel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help improving the system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lead to better marke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Capturing user access patterns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mining path traversal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capturing user traveling 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improving the quality of such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08C1-66F2-49BA-91E4-2F0BCB40690B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ark@cs.sungshin.ac.k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4044960" y="768240"/>
            <a:ext cx="368280" cy="36828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911240" y="5264280"/>
            <a:ext cx="368280" cy="36828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597040" y="4044960"/>
            <a:ext cx="368280" cy="36828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15960" y="4044960"/>
            <a:ext cx="368280" cy="36828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901960" y="2825640"/>
            <a:ext cx="368280" cy="36828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301760" y="2825640"/>
            <a:ext cx="368280" cy="36828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950080" y="2825640"/>
            <a:ext cx="368280" cy="36828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940440" y="2825640"/>
            <a:ext cx="368280" cy="36828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216160" y="1835280"/>
            <a:ext cx="368280" cy="36828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254640" y="1835280"/>
            <a:ext cx="368280" cy="36828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359160" y="5264280"/>
            <a:ext cx="368280" cy="36828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H="1">
            <a:off x="2514240" y="990720"/>
            <a:ext cx="152388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838080" y="3200400"/>
            <a:ext cx="60984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H="1">
            <a:off x="2742840" y="3200400"/>
            <a:ext cx="30492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H="1">
            <a:off x="2133360" y="4343400"/>
            <a:ext cx="53316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895480" y="4343400"/>
            <a:ext cx="60984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419720" y="990720"/>
            <a:ext cx="190476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H="1">
            <a:off x="6171840" y="2133720"/>
            <a:ext cx="1522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553080" y="2133720"/>
            <a:ext cx="53352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514600" y="2133720"/>
            <a:ext cx="53352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H="1">
            <a:off x="1447920" y="2057400"/>
            <a:ext cx="7617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193840" y="1828800"/>
            <a:ext cx="387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돋움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79440" y="2803680"/>
            <a:ext cx="320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93640" y="402264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돋움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879640" y="280368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돋움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574000" y="4022640"/>
            <a:ext cx="422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돋움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889280" y="524196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돋움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336120" y="5241960"/>
            <a:ext cx="473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돋움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231600" y="1812960"/>
            <a:ext cx="422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돋움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927760" y="280368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돋움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918480" y="280368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돋움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022640" y="74628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돋움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2514240" y="838080"/>
            <a:ext cx="1219320" cy="762120"/>
          </a:xfrm>
          <a:prstGeom prst="line">
            <a:avLst/>
          </a:prstGeom>
          <a:ln w="1260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1371240" y="1981080"/>
            <a:ext cx="609480" cy="609840"/>
          </a:xfrm>
          <a:prstGeom prst="line">
            <a:avLst/>
          </a:prstGeom>
          <a:ln w="1260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533160" y="3048120"/>
            <a:ext cx="533160" cy="838080"/>
          </a:xfrm>
          <a:prstGeom prst="line">
            <a:avLst/>
          </a:prstGeom>
          <a:ln w="1260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1143000" y="3352320"/>
            <a:ext cx="609480" cy="838440"/>
          </a:xfrm>
          <a:prstGeom prst="line">
            <a:avLst/>
          </a:prstGeom>
          <a:ln w="12600">
            <a:solidFill>
              <a:srgbClr val="0000ff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1828800" y="2361960"/>
            <a:ext cx="457200" cy="609480"/>
          </a:xfrm>
          <a:prstGeom prst="line">
            <a:avLst/>
          </a:prstGeom>
          <a:ln w="12600">
            <a:solidFill>
              <a:srgbClr val="0000ff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2590920" y="3200400"/>
            <a:ext cx="304560" cy="762120"/>
          </a:xfrm>
          <a:prstGeom prst="line">
            <a:avLst/>
          </a:prstGeom>
          <a:ln w="1260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2057400" y="4267080"/>
            <a:ext cx="457200" cy="838440"/>
          </a:xfrm>
          <a:prstGeom prst="line">
            <a:avLst/>
          </a:prstGeom>
          <a:ln w="1260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2362320" y="4572000"/>
            <a:ext cx="304560" cy="914400"/>
          </a:xfrm>
          <a:prstGeom prst="line">
            <a:avLst/>
          </a:prstGeom>
          <a:ln w="12600">
            <a:solidFill>
              <a:srgbClr val="0000ff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200760" y="-2819160"/>
            <a:ext cx="1065960" cy="8076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ff"/>
            </a:solidFill>
            <a:custDash>
              <a:ds d="499000" sp="20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495680" y="838080"/>
            <a:ext cx="1828800" cy="914400"/>
          </a:xfrm>
          <a:prstGeom prst="line">
            <a:avLst/>
          </a:prstGeom>
          <a:ln w="1260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6019560" y="2133720"/>
            <a:ext cx="152280" cy="609480"/>
          </a:xfrm>
          <a:prstGeom prst="line">
            <a:avLst/>
          </a:prstGeom>
          <a:ln w="1260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V="1">
            <a:off x="6400800" y="2285640"/>
            <a:ext cx="0" cy="685800"/>
          </a:xfrm>
          <a:prstGeom prst="line">
            <a:avLst/>
          </a:prstGeom>
          <a:ln w="12600">
            <a:solidFill>
              <a:srgbClr val="0000ff"/>
            </a:solidFill>
            <a:prstDash val="dash"/>
            <a:miter/>
            <a:headEnd len="med" type="triangle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705720" y="2133720"/>
            <a:ext cx="457200" cy="609480"/>
          </a:xfrm>
          <a:prstGeom prst="line">
            <a:avLst/>
          </a:prstGeom>
          <a:ln w="12600">
            <a:solidFill>
              <a:srgbClr val="0000ff"/>
            </a:solidFill>
            <a:miter/>
            <a:headEnd len="med" type="triangle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955960" y="74628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cc"/>
                </a:solidFill>
                <a:latin typeface="Arial"/>
                <a:ea typeface="돋움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584360" y="181296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cc"/>
                </a:solidFill>
                <a:latin typeface="Arial"/>
                <a:ea typeface="돋움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93640" y="303228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cc"/>
                </a:solidFill>
                <a:latin typeface="Arial"/>
                <a:ea typeface="돋움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432080" y="364176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cc"/>
                </a:solidFill>
                <a:latin typeface="Arial"/>
                <a:ea typeface="돋움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041560" y="257508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cc"/>
                </a:solidFill>
                <a:latin typeface="Arial"/>
                <a:ea typeface="돋움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032280" y="211788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cc"/>
                </a:solidFill>
                <a:latin typeface="Arial"/>
                <a:ea typeface="돋움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666880" y="2057400"/>
            <a:ext cx="533520" cy="685800"/>
          </a:xfrm>
          <a:prstGeom prst="line">
            <a:avLst/>
          </a:prstGeom>
          <a:ln w="12600">
            <a:solidFill>
              <a:srgbClr val="0000ff"/>
            </a:solidFill>
            <a:miter/>
            <a:headEnd len="med" type="triangle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422440" y="318456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cc"/>
                </a:solidFill>
                <a:latin typeface="Arial"/>
                <a:ea typeface="돋움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965240" y="425124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cc"/>
                </a:solidFill>
                <a:latin typeface="Arial"/>
                <a:ea typeface="돋움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422440" y="493704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cc"/>
                </a:solidFill>
                <a:latin typeface="Arial"/>
                <a:ea typeface="돋움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048120" y="4267080"/>
            <a:ext cx="533160" cy="914400"/>
          </a:xfrm>
          <a:prstGeom prst="line">
            <a:avLst/>
          </a:prstGeom>
          <a:ln w="12600">
            <a:solidFill>
              <a:srgbClr val="0000ff"/>
            </a:solidFill>
            <a:miter/>
            <a:headEnd len="med" type="triangle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184560" y="4327560"/>
            <a:ext cx="701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cc"/>
                </a:solidFill>
                <a:latin typeface="Arial"/>
                <a:ea typeface="돋움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175280" y="3032280"/>
            <a:ext cx="523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cc"/>
                </a:solidFill>
                <a:latin typeface="Arial"/>
                <a:ea typeface="돋움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41960" y="898560"/>
            <a:ext cx="523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cc"/>
                </a:solidFill>
                <a:latin typeface="Arial"/>
                <a:ea typeface="돋움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699160" y="2041560"/>
            <a:ext cx="523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cc"/>
                </a:solidFill>
                <a:latin typeface="Arial"/>
                <a:ea typeface="돋움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308640" y="2514600"/>
            <a:ext cx="549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cc"/>
                </a:solidFill>
                <a:latin typeface="Arial"/>
                <a:ea typeface="돋움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842160" y="2117880"/>
            <a:ext cx="523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cc"/>
                </a:solidFill>
                <a:latin typeface="Arial"/>
                <a:ea typeface="돋움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326120" y="4602240"/>
            <a:ext cx="45482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Arial"/>
                <a:ea typeface="돋움"/>
              </a:rPr>
              <a:t>Maximal forward refere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돋움"/>
              </a:rPr>
              <a:t>{ABCD, ABEGH, ABEGW, AOU, AOV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295640" y="152280"/>
            <a:ext cx="2827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돋움"/>
              </a:rPr>
              <a:t>Traversal patter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73360" y="5973840"/>
            <a:ext cx="45025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돋움"/>
              </a:rPr>
              <a:t>2. Find maximal reference sequenc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474080" y="5592600"/>
            <a:ext cx="41216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돋움"/>
              </a:rPr>
              <a:t>1. Find large reference sequenc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1AC8-CB67-45C8-9D63-0BEBE48BF70E}" type="slidenum">
              <a:t>2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ark@cs.sungshin.ac.k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의사결정지원 시스템의 발전과정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아키텍쳐 환경의 발전 단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3333cc"/>
              </a:buClr>
              <a:buSzPct val="6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6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년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ster files, repo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ts of master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3333cc"/>
              </a:buClr>
              <a:buSzPct val="60000"/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7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년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SD (Direct Access Storage Device) &amp; DB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ine, high-performance transaction processing (OLT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3333cc"/>
              </a:buClr>
              <a:buSzPct val="60000"/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8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년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Cs, 4GL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action processing &amp; MIS/D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3333cc"/>
              </a:buClr>
              <a:buSzPct val="60000"/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9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년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M(Data Mining) &amp; DW(Data Warehous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0C95-98F7-474D-9C4D-91EC12445579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ark@cs.sungshin.ac.k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1_5" descr=""/>
          <p:cNvPicPr/>
          <p:nvPr/>
        </p:nvPicPr>
        <p:blipFill>
          <a:blip r:embed="rId1"/>
          <a:stretch/>
        </p:blipFill>
        <p:spPr>
          <a:xfrm>
            <a:off x="1676520" y="1295280"/>
            <a:ext cx="6248160" cy="52070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거미줄 구조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(The Spider Web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2460-98B4-440B-A105-38A4696BDEC1}" type="slidenum">
              <a:t>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ark@cs.sungshin.ac.k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가지 수준의 아키텍쳐 환경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운영 수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operational leve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ailed, day to day, current valued, high probability of access, application orien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원자 또는 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데이터웨어하우스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수준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tomic or DW leve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granular, time variant, integrated, subject oriented, some summ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부서 수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partmental leve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ochial, some derived; some primitive, typical departments(accounting, marketing, actuari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개인 수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ndividual leve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mporary, ad hoc, heuristic, non-repetitive, PC or workstation 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9C2E-9D32-4CE4-A5A4-B84D01A91F99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ark@cs.sungshin.ac.k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1_11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8458200" cy="52340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Levels of the Architec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4C22-3242-4231-93C4-303B20E1E4AC}" type="slidenum">
              <a:t>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ark@cs.sungshin.ac.k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DW SDLC (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시스템 개발 생명 주기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)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ystem development life cy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LDS(SDLC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의 반대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라고도 부른다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3333cc"/>
              </a:buClr>
              <a:buSzPct val="6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lement wareho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3333cc"/>
              </a:buClr>
              <a:buSzPct val="6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3333cc"/>
              </a:buClr>
              <a:buSzPct val="6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for b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3333cc"/>
              </a:buClr>
              <a:buSzPct val="6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 against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3333cc"/>
              </a:buClr>
              <a:buSzPct val="6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ign DSS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3333cc"/>
              </a:buClr>
              <a:buSzPct val="6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yze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3333cc"/>
              </a:buClr>
              <a:buSzPct val="6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Understand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ED43-CE91-44B9-83D8-82FE7CCB6230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ark@cs.sungshin.ac.k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데이터웨어하우스의 환경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74678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Arial"/>
              </a:rPr>
              <a:t>데이터웨어하우스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ko-KR" sz="2800" spc="-1" strike="noStrike">
                <a:solidFill>
                  <a:srgbClr val="ff0000"/>
                </a:solidFill>
                <a:latin typeface="Arial"/>
              </a:rPr>
              <a:t>관리자의 의사결정을 지원하기 위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ko-KR" sz="2800" spc="-1" strike="noStrike">
                <a:solidFill>
                  <a:srgbClr val="000000"/>
                </a:solidFill>
                <a:latin typeface="Arial"/>
              </a:rPr>
              <a:t>주제중심의</a:t>
            </a:r>
            <a:r>
              <a:rPr b="1" lang="ko-KR" sz="2800" spc="-1" strike="noStrike">
                <a:solidFill>
                  <a:srgbClr val="000000"/>
                </a:solidFill>
                <a:latin typeface="Arial"/>
              </a:rPr>
              <a:t>(subject oriented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ko-KR" sz="2800" spc="-1" strike="noStrike">
                <a:solidFill>
                  <a:srgbClr val="000000"/>
                </a:solidFill>
                <a:latin typeface="Arial"/>
              </a:rPr>
              <a:t>통합된</a:t>
            </a:r>
            <a:r>
              <a:rPr b="1" lang="ko-KR" sz="2800" spc="-1" strike="noStrike">
                <a:solidFill>
                  <a:srgbClr val="000000"/>
                </a:solidFill>
                <a:latin typeface="Arial"/>
              </a:rPr>
              <a:t>(integrated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ko-KR" sz="2800" spc="-1" strike="noStrike">
                <a:solidFill>
                  <a:srgbClr val="000000"/>
                </a:solidFill>
                <a:latin typeface="Arial"/>
              </a:rPr>
              <a:t>비휘발성의</a:t>
            </a:r>
            <a:r>
              <a:rPr b="1" lang="ko-KR" sz="2800" spc="-1" strike="noStrike">
                <a:solidFill>
                  <a:srgbClr val="000000"/>
                </a:solidFill>
                <a:latin typeface="Arial"/>
              </a:rPr>
              <a:t>(nonvolatile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ko-KR" sz="2800" spc="-1" strike="noStrike">
                <a:solidFill>
                  <a:srgbClr val="000000"/>
                </a:solidFill>
                <a:latin typeface="Arial"/>
              </a:rPr>
              <a:t>시간변이적인</a:t>
            </a:r>
            <a:r>
              <a:rPr b="1" lang="ko-KR" sz="2800" spc="-1" strike="noStrike">
                <a:solidFill>
                  <a:srgbClr val="000000"/>
                </a:solidFill>
                <a:latin typeface="Arial"/>
              </a:rPr>
              <a:t>(time varia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ko-KR" sz="2800" spc="-1" strike="noStrike">
                <a:solidFill>
                  <a:srgbClr val="ff0000"/>
                </a:solidFill>
                <a:latin typeface="Arial"/>
              </a:rPr>
              <a:t>데이터</a:t>
            </a:r>
            <a:r>
              <a:rPr b="1" lang="ko-K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ko-KR" sz="2800" spc="-1" strike="noStrike">
                <a:solidFill>
                  <a:srgbClr val="ff0000"/>
                </a:solidFill>
                <a:latin typeface="Arial"/>
              </a:rPr>
              <a:t>집합</a:t>
            </a:r>
            <a:r>
              <a:rPr b="1" lang="ko-KR" sz="2800" spc="-1" strike="noStrike">
                <a:solidFill>
                  <a:srgbClr val="000000"/>
                </a:solidFill>
                <a:latin typeface="Arial"/>
              </a:rPr>
              <a:t>이다</a:t>
            </a:r>
            <a:r>
              <a:rPr b="1" lang="ko-K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0F28-7A1B-43F6-932A-D4FFBE7B7406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ark@cs.sungshin.ac.k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2_1" descr=""/>
          <p:cNvPicPr/>
          <p:nvPr/>
        </p:nvPicPr>
        <p:blipFill>
          <a:blip r:embed="rId1"/>
          <a:stretch/>
        </p:blipFill>
        <p:spPr>
          <a:xfrm>
            <a:off x="1447920" y="1143000"/>
            <a:ext cx="6553080" cy="51786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데이터의 주제중심의 예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CD4E-3C62-47A1-911B-403F5FEC00C5}" type="slidenum">
              <a:t>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ark@cs.sungshin.ac.k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02T11:14:05Z</dcterms:created>
  <dc:creator>박종수</dc:creator>
  <dc:description/>
  <dc:language>en-US</dc:language>
  <cp:lastModifiedBy>Jong Soo Park</cp:lastModifiedBy>
  <dcterms:modified xsi:type="dcterms:W3CDTF">2002-05-14T02:32:52Z</dcterms:modified>
  <cp:revision>42</cp:revision>
  <dc:subject/>
  <dc:title>DB와 DM 설명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EncodingType">
    <vt:r8>-99</vt:r8>
  </property>
  <property fmtid="{D5CDD505-2E9C-101B-9397-08002B2CF9AE}" pid="8" name="GraphicType">
    <vt:r8>2</vt:r8>
  </property>
  <property fmtid="{D5CDD505-2E9C-101B-9397-08002B2CF9AE}" pid="9" name="HomePage">
    <vt:lpwstr/>
  </property>
  <property fmtid="{D5CDD505-2E9C-101B-9397-08002B2CF9AE}" pid="10" name="LinkColor">
    <vt:r8>16711782</vt:r8>
  </property>
  <property fmtid="{D5CDD505-2E9C-101B-9397-08002B2CF9AE}" pid="11" name="MailAddress">
    <vt:lpwstr>jmlee@hansung.ac.kr</vt:lpwstr>
  </property>
  <property fmtid="{D5CDD505-2E9C-101B-9397-08002B2CF9AE}" pid="12" name="NavBtnPos">
    <vt:r8>4</vt:r8>
  </property>
  <property fmtid="{D5CDD505-2E9C-101B-9397-08002B2CF9AE}" pid="13" name="Other">
    <vt:lpwstr/>
  </property>
  <property fmtid="{D5CDD505-2E9C-101B-9397-08002B2CF9AE}" pid="14" name="OutputDir">
    <vt:lpwstr>D:\jmlee\2000\lecture\db</vt:lpwstr>
  </property>
  <property fmtid="{D5CDD505-2E9C-101B-9397-08002B2CF9AE}" pid="15" name="ScreenSize">
    <vt:r8>3</vt:r8>
  </property>
  <property fmtid="{D5CDD505-2E9C-101B-9397-08002B2CF9AE}" pid="16" name="ScreenUsage">
    <vt:r8>2</vt:r8>
  </property>
  <property fmtid="{D5CDD505-2E9C-101B-9397-08002B2CF9AE}" pid="17" name="ShowNotes">
    <vt:bool>0</vt:bool>
  </property>
  <property fmtid="{D5CDD505-2E9C-101B-9397-08002B2CF9AE}" pid="18" name="TemplateType">
    <vt:r8>1</vt:r8>
  </property>
  <property fmtid="{D5CDD505-2E9C-101B-9397-08002B2CF9AE}" pid="19" name="TextColor">
    <vt:r8>0</vt:r8>
  </property>
  <property fmtid="{D5CDD505-2E9C-101B-9397-08002B2CF9AE}" pid="20" name="TransparentButton">
    <vt:r8>0</vt:r8>
  </property>
  <property fmtid="{D5CDD505-2E9C-101B-9397-08002B2CF9AE}" pid="21" name="UseBrowserColor">
    <vt:bool>1</vt:bool>
  </property>
  <property fmtid="{D5CDD505-2E9C-101B-9397-08002B2CF9AE}" pid="22" name="VisitedColor">
    <vt:r8>10040268</vt:r8>
  </property>
</Properties>
</file>