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6DDA-A7E2-481E-A082-B3A21C14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82AE-CB7E-4B08-9DB8-B3FDB4D0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4D4A-35C6-4D24-A55E-F16E5881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7106-65E7-42B0-B963-8FC927481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CE98-989D-4870-9287-34B38C6AD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D3FF-4A38-440B-ABF5-DDD37278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3253-9D33-4E1F-AB35-4B7A3B42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A8AE-DEB2-4DDE-8787-D14D8AC2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885F-12B4-4F92-8E8B-EE1B3FE6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D83D-FE96-42E7-8FB3-43F50F85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C9D2-39DA-4F40-A1C3-8BC7C87F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16DC-8323-47B8-ACBF-CEF93C10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ECB8-2D25-4F5E-808C-C589A67E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5361-59FD-4F98-AB41-EE91812D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60CB-C47D-4E2E-9D6A-5A51F01E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97D9-1187-48C9-A1A3-CCFC78E6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1BE9-D6DA-4890-8EF4-8CA6447C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F4FC-CA99-4F6E-BEF6-0A5F1B50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575E-9BEB-4593-AE0E-94CBAE64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B8CD-993E-4953-9D44-F3F25A56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7AD7-97F0-4A12-AEDE-CCD513C5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CE2A-1CC5-457A-887C-DE0BE184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586C-A619-445D-86F1-41AF7324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DFCA-9A3D-4F2C-8D25-8E362928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9BAD-39E0-4EFF-9934-282470241E1E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996B-DF1B-4EA9-B41A-C93176E0B880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8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베이스 마켓팅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FEB1-22E9-4BFE-B456-4513B2810BD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과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은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정제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데이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필수이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에는 정제된 데이터가 이미 존재한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8D1D-A576-40E6-8430-C59D4311AE6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의 이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현업 전문가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A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도구를 이용해 분석하는 과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56 – 158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C146-8276-4FBF-A845-957FF4488E1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의 과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수집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준비 작업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트레이닝 셑과 테스트 셑을 결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모델 작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적용과 테스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xternal evaluation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실제 데이터와 테스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실제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실제 데이터를 적용해보고 그 결과를 분석한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D1E2-C9A1-47E2-BF84-F2207124F57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 모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redictiv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lassification: decis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escriptiv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연관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ssociation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61F4-3746-40EF-8DE1-43B47E0054D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ecision tree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에 의한 데이터 마이닝 분석의 예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준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oot) nod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불만 신고에 의해서 해지자를 먼저 고른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ternal) nod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연체 회수를 가지고 나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od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결정하는 방법이 중요하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결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160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Rul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흰색 노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색 노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검정색 노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DD68-E35B-43BD-8CCF-6A79C678191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을 할 때 고려 사항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경험적인 규칙 발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전문가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현업 전문가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수많은 시행착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발견 후에도 끊임없이 결과 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도구는 쉬운 것이 아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전문가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의 통계적 분석에 경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의 장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결과 확실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OI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 분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특정 분야를 중심으로 확산 예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손쉬운 도구의 활성화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Visu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E180-0592-401D-A4DC-A93BC1D708D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8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장 데이터베이스 마케팅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마케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마케팅을 현실화한 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데이터베이스 구축 방법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을 해야만 하는 이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DM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과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D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의 이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의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모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43FF-3C74-4D71-B9C2-170C719D6CC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베이스 마케팅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과학적인 경영기법을 도입하려는 시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 Marketing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은 이미 활용되고 있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데이터베이스 마케팅 접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Tahoma"/>
                <a:ea typeface="굴림"/>
              </a:rPr>
              <a:t>고객 개인과의 관계를 중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1:1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마케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ife time valu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최대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고객 유지 마케팅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etention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이탈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fection rate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감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C2BB-E44B-4C90-AE7B-4BB1D36B91C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마켓팅을 현실화한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(1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의 데이터베이스 마케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계적 방식과 프로그램을 개발하는 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Samp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방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의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 결과에 오차 가능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시에 주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처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구축 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마케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OL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사용하여 다양한 분석을 다차원으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A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는 비정형화된 분석에 매우 강하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실제 데이터를 가지므로 즉시 데이터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6ABC-F9FD-4B80-9E2F-1D267F5602F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마켓팅을 현실화한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(2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마케팅을 위한 데이터 웨어하우스 기본 구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147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O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ROLAP, MOLAP, D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TM, DM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 ODS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굴림"/>
              </a:rPr>
              <a:t>(feedb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백화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카드 회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은행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험 회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신 회사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OLAP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FM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귀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세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80/20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HAID(Chi-square Automatic Interaction Detector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본 수식이 주어지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D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를 즉시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A300-AAAA-481E-AE75-976C15D6E1A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고객 데이터베이스 구축 방법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에 관한 정보를 체계적으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데이터베이스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데이터베이스로부터 원하는 정보를 검색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하여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필요한 데이터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목표 고객과 관련 데이터를 이용하여 효과적인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TM/DM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실시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케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팅 결과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데이터베이스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여 관리함으로써 장기적인 마케팅 의사결정을 지원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8961-DA93-4B60-9DB3-1E0584658F4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의 사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초기 단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을 위한 최적의 시스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업의 요구가 고객 관리에 중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이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 분야에서 데이터의 상관관계를 분석하여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비즈니스에 유용한 법칙을 발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전문가는 고객 데이터 내용을 잘 알아야 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의 성향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해지 고객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신용카드의 위조 사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raud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2E12-78DE-45E8-83A3-9B03F9FF8C0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을 해야만 하는 이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M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상관 관계를 분석하여 미래 예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T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환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가 광범위하게 구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상에서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M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을 이용하여 복잡한 데이터 분석 요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 난이도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usiness Pay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소규모의 투자로도 많고 빠른 효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응용 분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로 데이터베이스 마케팅 분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통신회사의 해지자 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유통 업체의 장바구니 분석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arket basket analys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신용 카드 회사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raud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일반 회사의 광고 효과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신제품 개발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고객 성향 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472C-CCCE-47D6-84F8-F779633F74F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에 대한 </a:t>
            </a:r>
            <a:r>
              <a:rPr b="0" lang="ko-KR" sz="3600" spc="-1" strike="noStrike">
                <a:solidFill>
                  <a:srgbClr val="ff0000"/>
                </a:solidFill>
                <a:latin typeface="Tahoma"/>
                <a:ea typeface="굴림"/>
              </a:rPr>
              <a:t>잘못된 인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도구를 사용하면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자동적으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비즈니스의 법칙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ule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발견하고 즉각적으로 활용할 수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누구나 데이터 마이닝 도구만 있으면 데이터 마이닝을 할 수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은 통계와 다른 인공지능 기법을 이용한 새로운 기술이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있는 데이터를 변환하지 않고 즉각적으로 분석할 수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에는 별도의 하드웨어가 필요없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C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만으로도 가능하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E33B-EB67-471C-ADE9-8326C7AB236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20T06:03:39Z</dcterms:modified>
  <cp:revision>253</cp:revision>
  <dc:subject/>
  <dc:title>제6장 데이터 웨어하우스의 관리</dc:title>
</cp:coreProperties>
</file>