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64C-B170-4542-9B77-6E033C95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44A-1B91-4EA9-8C54-3D932A37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A45-5E49-4BCF-9FE3-70358C01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8D1-CB13-4D84-8004-C3E34A07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BBC2-F6B6-4904-9420-3AE3FE1C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55B8-860D-40CE-85F2-D673B251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1324-FBC9-44F8-A523-B4C00FE5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46FA-9937-4C67-8815-E695599B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08C6-A141-4D02-803C-6DF2F201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527E-61EC-4BE9-8A97-36B20BC8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F27A-5217-4707-95BA-AFA03C0F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9E9-0585-42B5-B1DA-88DC61DB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6E9E-B5D6-4BD6-B84F-000F8D04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46D9-8588-41BF-8217-AD9A19CC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DE95-E8BA-4593-A057-74B9A793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E92E-7FC8-43E1-BF71-ADDCBE08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1CFE-A871-403E-899D-EE324AA0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50D-B0C7-4572-A8F1-3FAB7DCD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A08-4A60-4093-9A95-D1DB773C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83C-90C3-4CD4-BCA2-30C8B2D1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B6A-2645-4E42-A441-6CF9041E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2E3-C862-4B04-B3F7-16FD9A89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022-94D9-4D4C-A916-F635564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84A-6E8F-4F4F-BEF8-06B917E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A21E-8C7B-47A7-9481-36FCB536D617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0C52-4D53-4FEC-9818-0CD6E332205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F847-F169-4AEA-86DF-C83A87110F38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8ECB-200F-4AAB-8B37-10A9EB2A3EF3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정당화하고 최고 경영진의 지원을 얻는 방법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366-1C93-47AF-BA5E-98F7AD06266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D6C89-380F-47FA-AB4C-94AB9FF7446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능력 발전의 단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상태 보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심 설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보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 관계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에 의한 동적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6FA-BEA7-4C75-94FE-AB53FD12E9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F4F80-A7CD-489A-8DF8-4B42F382E20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웨어하우스에 무엇을 어떤 순서로 넣을지 어떻게 판단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데이터는 똑같이 가치있는 것이 아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가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정의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모델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분석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8EA-3C5F-4877-ADDF-1094DF9DD2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1F1D3-4C9E-4A5B-95BD-48F87CC13B4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과 자원 면에서 당신의 조직체 내에서 데이터 웨어하우스의 그림자는 얼마나 큰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자 데이터 웨어하우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매번 처음부터 시작하지 않아도 될 수 있도록 분석 조각들을 모으고 반복할 수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4D7-B584-4093-B90A-2A4E65F681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9E118-411D-4294-90E1-4985272D08F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0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회의를 통제하게 만들 준비가 되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방침을 취하고 당신의 각본을 벗어날 각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상회의에서 발표하는 당신을 비디오 촬영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428-E1A2-4370-A5E4-D114F291D4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C5220-547A-40C3-B45D-8FF3CD99BC0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언제 수석 경영진을 납득시키기를 끝낼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이 회사 경영 과정에서 확고히 뿌리를 내린 때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887-DF05-450B-BF3D-49C3774FB7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A9D71-3AF6-48D1-AADB-039B99BB3AF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2: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들이 데이터 웨어하우스를 이용하면서 시간을 얼마나 낭비할 것인지에 대해 중역들이 걱정하는 것은 얼마나 타당성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몇 가지 역사적인 증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관계들이 변경시켰을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정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필요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지능형 에이전트 소프트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에 관한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3E9-6D7D-438A-A6F7-A580EB62D1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73848-5599-4203-BA42-2EB7B23EABF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가 단 한 그룹의 필요성에 의해 윤색되지 않도록 폭넓은 충분한 지원 기반을 갖추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근본적으로 많은 기업 노력들을 지원할 잠재력을 가진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201-AD6B-4A38-B301-7DB2BF6D75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7250F-2356-42FA-9DCB-D7B610E1C9D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의사결정에 개입된 중역들의 개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능력 그리고 스타일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어떻게 지식을 습득하고 다른 사람과 어떻게 상호작용을 하는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무엇이 그들을 지루하게 하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엇이 그들을 흥미롭게 하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들의 기분을 상하게 할 것인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만일 대답이 ‘아니오’라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사항들을 고려하는 것이 좋을 것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 일곱 가지의 중요하고도 뚜렷이 구분되는 지능의 종류 – 부분적으로 탁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D0D-0586-47E7-BDD4-80D581CDBE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2D969-618D-4D60-A92A-738EC8BAEE4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성의 특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석 경영진에게 프리젠테이션을 실시하기전에 제시해야 될 두 가지 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외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내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직관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체계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가지 스타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8A4-DF3C-4AC5-A5A2-9CAFD74B39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01E42-9768-4567-BB5F-75A75B68D2D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의 구성요소는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5-9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목표와의 연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반 설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종류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F5D-76FB-462E-A2A4-D8613F988E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CFB01-280B-46CB-877A-4666D6B6803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모든 것이 준비에 달려 있다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의 전에 지금 스스로 질문을 던지고 해답을 전개할 기회를 갖는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동안 데이터 웨어하우스에 관하여 일해온 많은 사람들의 경험을 반영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50D-BE7A-4F46-9031-6973326B9C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95C5B-8F2A-4D40-84D3-7E100308F7C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단 그들이 필요성에 대해 의견 일치를 보일 경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고 경영진은 당신이 그것을 해낼 수 있다는 것을 어떻게 알 수 있을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대 시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출을 눈에 보이는 대로 수입 이내로 억제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 있는 제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공식 데이터의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성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E60-A529-4D6F-AB45-B8A772C427E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E0DF6-6522-47EF-98A8-405CBD21A53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하나의 조직체로서 어떻게 사람들로 하여금 이러한 설비를 새롭고 혁신적으로 사용하도록 교육하고 부추길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사람들이 그것을 이용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공적인 데이터 웨어하우스는 지속적인 사용자 개입과 학습을 지원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5E7-4C21-4C72-A464-5D01886757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4F95C-5783-491E-872C-FE9A0D041DB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슨 무엇이 될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반에는 어떻게 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공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작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성취하기 위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잠재력 이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파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업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지지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과 전달이라는 두 가지 근본적인 업무 활동을 조화시키는 경영시스템을 지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F78-4C7F-4C8B-B6C1-B7B46E3010C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FE04F-0492-4720-B76B-0408B991AE2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의 데이터 웨어하우스 노력은 경영진에 의해 “단순히 또다른 형태의 정보 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“그들의 기업 전략 중 하나 이상의 부분을 성공적으로 시행할 때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잠재력의 이해와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에 근거한 의사 결정으로 전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 및 고객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재정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ADF-2E1F-4D38-B38F-C27E5EF984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4D09A-38A1-4885-8684-93C5465F017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어떤 기업 추진 계획들을 지원할 수 있는지 어떻게 찾아낼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계획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 작성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역 보좌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재정비 계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문위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C81-D2BA-4EE7-A480-B7C80EA22A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77518-C82A-4FC0-86BC-48E4CC09A4A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왜 데이터 웨어하우스와 동일한 문장에서 “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전략적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이라는 단어를 쓸 때 주의를 기울어야 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이나 수입 증대에 연결시킬 방법을 찾을 수 없으면서 투자를 요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oo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체적이고 이미 합의된 전략적 목적을 달성하는 데 필요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또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773-8C14-4561-AD75-A0A6889D69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0007A-481D-44BA-9696-26235C7FBFB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경영진은 당신의 프리젠테이션이 있기 전에 데이터 웨어하우스에 관하여 무엇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착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ea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는 조심해야 할 </a:t>
            </a:r>
            <a:r>
              <a:rPr b="0" lang="ko-KR" sz="2400" spc="-1" strike="noStrike">
                <a:solidFill>
                  <a:srgbClr val="3333cc"/>
                </a:solidFill>
                <a:latin typeface="Tahoma"/>
                <a:ea typeface="굴림"/>
              </a:rPr>
              <a:t>순환 주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란 무엇인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가지고 있으니 우리도 하나 갖추어야 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우리에게도 예전에 그런 것이 하나 있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런데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것이 효과는 없고 시간과 돈만 낭비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진은 아이디어의 순환 주기 중 어디에 위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7A1-F1B2-4798-A423-BF2D186033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6925F-C677-4424-B99D-AE5835BB4C5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왜 납득시키기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자원들이 수직적 연통이 될 경향이 있는 세계에서 펼쳐지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수평적 게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힘과 능력을 부여하는 실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업무 문제점들에 영향을 주도록 도입될 수 있는 내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및 분석학의 여러 능력으로 구성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A02-0D9F-415D-9CDB-A365C4CFCE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4E98B-5407-4576-A5FE-9108FEA2C4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른 사람들은 어떤 종류의 정당화를 이용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노력에 드는 비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보고서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그것을 하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업무에 관한 공통적인 시각과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간단한 도매 금융업 수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손실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4AE-EB1C-421E-8538-3C8DA23F00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14EAC-3E64-48E1-8DE5-6FFBDA3F462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를 무엇이라고 설명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반 설비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그밖의 다른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을 여러 가지 기업 노력들을 지원하는 기반 설비로 생각하는 것이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유익할 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2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일관성 있는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모델을 제공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049-28B3-4544-B94E-9BECE029D9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39B2E-AA2D-422D-9295-65349D6CC88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10T05:36:11Z</dcterms:modified>
  <cp:revision>219</cp:revision>
  <dc:subject/>
  <dc:title>No Slide Title</dc:title>
</cp:coreProperties>
</file>