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CCC-2F57-4DB4-82A7-F4EF5D6F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58D-4624-4D91-BC3B-3C8611D9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F9E-F294-4149-B7C3-96D4595B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614-3A0B-4EEF-A21D-C317D5FE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41F3-CBF9-4A9D-810C-D8832E58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FC41-4562-4EC3-B9D3-D9C71DE0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3D85-133E-4857-9901-52D13CA5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2F34-1995-4938-9543-AA3D0B7F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B697-F96D-43E1-8541-CD9F0F2B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C1CB-0846-4492-8CF4-EA7CFD73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8967-70ED-484D-8A7D-7DE4DACE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483-7114-44BF-954E-F7E57608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DE33-6607-479F-94AC-03B0C3D5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D8B4-27D7-4D7F-A48D-6EB96870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ED37-0066-49D7-B669-96AFDBA5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3725-26B1-4C4A-89A3-17642784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DC5E-E9AF-450C-B483-B881EC28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A33-5CF5-41F7-8255-B6D1B613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4D2-385C-4A3A-AED5-FB9329D9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EEC-4D2D-436B-85A5-4FBFD936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80D-16F7-4A6E-91FD-0EA3C69F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F86-19CC-4E73-9799-2AA90288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DF7-6342-4BFC-BCEE-DA633428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C67-CFD8-4998-A419-7AE49697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3E80-96EF-4BF0-A5E5-E7B013B4482A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4097-6BC4-4095-B580-118FBEB3BB5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B84B-AA7B-4FCF-837E-88741E4393D1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5188-E5B6-468A-8D5B-3AE5763DF047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4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292-F2EA-4979-89BE-F981B3FC8F6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21BEC-60A6-479E-BABB-1668A54860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그림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-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핵심 구성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관리 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의사 결정 지원 도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works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B6E-D2C3-43AF-A3CD-3E9C54C6E2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C9C06-B36B-475A-B97D-61EB8E14627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술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플랫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 관련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ol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기술이 데이터 웨어하우징에 적합한지를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플랫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드웨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 그리고 통신 네트워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산성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의사 결정 지원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913-2CA9-4D85-B0E3-ECBAB127E1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6091E-4719-4FC7-8B51-F6DEBB291E16}" type="datetime3">
              <a:rPr lang="en-US"/>
              <a:t>July 30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523880"/>
          <a:ext cx="8381880" cy="5024520"/>
        </p:xfrm>
        <a:graphic>
          <a:graphicData uri="http://schemas.openxmlformats.org/drawingml/2006/table">
            <a:tbl>
              <a:tblPr/>
              <a:tblGrid>
                <a:gridCol w="2057040"/>
                <a:gridCol w="2667240"/>
                <a:gridCol w="1752480"/>
                <a:gridCol w="190512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플랫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최종 사용자 도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모델링과 데이터베이스의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특별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체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리엔니지니어링과 클리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B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추출과 변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다차원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과 성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마이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네트워크 프로토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결정지원 응용프로그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워크스테이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 유틸리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447920" y="457200"/>
            <a:ext cx="64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304-BE39-4B80-BDF2-808EA4B6ACF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C3F7C-EDF4-41C3-A2E3-636DF7CA6AA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직체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을 조직체 내의 배치 위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조직과 업무 사용자 조직의 역할과 책임 명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4-6 :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적 구성 수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숙련 기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자원 관리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RM: information resource manag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업무 사용자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처리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응용 프로그램 시스템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술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E47-D6CB-457C-9DB2-980DA32C88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EE813-9D7C-44DE-9691-B512B40AE8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447920"/>
          <a:ext cx="8076960" cy="47498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전략 수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계획 및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징 목표 전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구축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업 데이터 모델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요건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징 데이터 구조 설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데이터 시각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저장소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표준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 및 사용자 디렉토리 관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베이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물리적 데이터베이스 구조 작성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적재 감시 및  조회 수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6AE-0F35-4A3F-85E3-77DA9864EA4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1FDC7-D4D6-4A20-8F1C-610BE2E59ED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계속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447920"/>
          <a:ext cx="8076960" cy="50432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사용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설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규칙 지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 결과 시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처리분석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 결정 지원 응용 프로그램 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응용프로그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전문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존 시스템 데이터의 정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분석가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프로그래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데이터와 데이터 웨어하우스의 대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를 선택 및 적재할 프로그램 작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도구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 구성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교육 전문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접근에 관한 교육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생산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시스템 작업 진행 및 데이터 웨어하우징 적재 감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457-34DB-4BA2-8375-6D2F32DDC5D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2F408-68C0-4ABF-99FF-A8252F2AD67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을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업 세분화 구조와 작업 계획의 근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의 일련의 데이터를 시작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가적인 데이터가 연속적으로 반복해서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F19-6FF7-417C-B994-6A3BDD35DE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27AED-BA1C-4AF6-BDBC-5B7909524F9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09680" y="20574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운영 환경 수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002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착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기업정보 구조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048120"/>
            <a:ext cx="1676520" cy="47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데이터베이스 설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4290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데이터 변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724280"/>
            <a:ext cx="198108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인터페이스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52578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생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54100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도구 및 응용 프로그램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58672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및 롤아웃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76520" y="2209680"/>
            <a:ext cx="533160" cy="228600"/>
            <a:chOff x="1676520" y="2209680"/>
            <a:chExt cx="533160" cy="228600"/>
          </a:xfrm>
        </p:grpSpPr>
        <p:sp>
          <p:nvSpPr>
            <p:cNvPr id="142" name=""/>
            <p:cNvSpPr/>
            <p:nvPr/>
          </p:nvSpPr>
          <p:spPr>
            <a:xfrm>
              <a:off x="1676520" y="2438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895480" y="2666880"/>
            <a:ext cx="533160" cy="228600"/>
            <a:chOff x="2895480" y="2666880"/>
            <a:chExt cx="533160" cy="228600"/>
          </a:xfrm>
        </p:grpSpPr>
        <p:sp>
          <p:nvSpPr>
            <p:cNvPr id="145" name=""/>
            <p:cNvSpPr/>
            <p:nvPr/>
          </p:nvSpPr>
          <p:spPr>
            <a:xfrm>
              <a:off x="2895480" y="2895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124080"/>
            <a:ext cx="533160" cy="228600"/>
            <a:chOff x="4191120" y="3124080"/>
            <a:chExt cx="533160" cy="228600"/>
          </a:xfrm>
        </p:grpSpPr>
        <p:sp>
          <p:nvSpPr>
            <p:cNvPr id="148" name=""/>
            <p:cNvSpPr/>
            <p:nvPr/>
          </p:nvSpPr>
          <p:spPr>
            <a:xfrm>
              <a:off x="4191120" y="3352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533160" cy="228600"/>
            <a:chOff x="5791320" y="3505320"/>
            <a:chExt cx="533160" cy="228600"/>
          </a:xfrm>
        </p:grpSpPr>
        <p:sp>
          <p:nvSpPr>
            <p:cNvPr id="151" name=""/>
            <p:cNvSpPr/>
            <p:nvPr/>
          </p:nvSpPr>
          <p:spPr>
            <a:xfrm>
              <a:off x="5791320" y="3733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62320" y="4038480"/>
            <a:ext cx="4419360" cy="381240"/>
            <a:chOff x="2362320" y="4038480"/>
            <a:chExt cx="4419360" cy="381240"/>
          </a:xfrm>
        </p:grpSpPr>
        <p:sp>
          <p:nvSpPr>
            <p:cNvPr id="154" name=""/>
            <p:cNvSpPr/>
            <p:nvPr/>
          </p:nvSpPr>
          <p:spPr>
            <a:xfrm flipH="1">
              <a:off x="2362320" y="44197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16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52480" y="4876920"/>
            <a:ext cx="533160" cy="228600"/>
            <a:chOff x="1752480" y="4876920"/>
            <a:chExt cx="533160" cy="228600"/>
          </a:xfrm>
        </p:grpSpPr>
        <p:sp>
          <p:nvSpPr>
            <p:cNvPr id="157" name=""/>
            <p:cNvSpPr/>
            <p:nvPr/>
          </p:nvSpPr>
          <p:spPr>
            <a:xfrm>
              <a:off x="1752480" y="5105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5638680"/>
            <a:ext cx="533160" cy="228600"/>
            <a:chOff x="4876920" y="5638680"/>
            <a:chExt cx="533160" cy="228600"/>
          </a:xfrm>
        </p:grpSpPr>
        <p:sp>
          <p:nvSpPr>
            <p:cNvPr id="160" name=""/>
            <p:cNvSpPr/>
            <p:nvPr/>
          </p:nvSpPr>
          <p:spPr>
            <a:xfrm>
              <a:off x="487692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81280" y="5334120"/>
            <a:ext cx="533160" cy="228600"/>
            <a:chOff x="3581280" y="5334120"/>
            <a:chExt cx="533160" cy="228600"/>
          </a:xfrm>
        </p:grpSpPr>
        <p:sp>
          <p:nvSpPr>
            <p:cNvPr id="163" name=""/>
            <p:cNvSpPr/>
            <p:nvPr/>
          </p:nvSpPr>
          <p:spPr>
            <a:xfrm>
              <a:off x="3581280" y="5562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1280" y="5334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77120" y="6019920"/>
            <a:ext cx="533160" cy="228600"/>
            <a:chOff x="6477120" y="6019920"/>
            <a:chExt cx="533160" cy="228600"/>
          </a:xfrm>
        </p:grpSpPr>
        <p:sp>
          <p:nvSpPr>
            <p:cNvPr id="166" name=""/>
            <p:cNvSpPr/>
            <p:nvPr/>
          </p:nvSpPr>
          <p:spPr>
            <a:xfrm>
              <a:off x="6477120" y="6248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FD7-8ECB-4238-80FC-044D2B42F7C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A7480-ECDD-4ABE-8274-A5F1985AE22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에 알맞은 구현 및 개발 순서 제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이며 단계 지향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전환과 제거에 대한 논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현 순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교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9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은 제거되었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758-A663-42C8-9AA7-21855F93974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576E0-D023-4466-8E60-18667CD8385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념 증명 프로젝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적으로 가능할 때마다 방법론이나 도구들에서 나타나는 모순을 파악하고 정정하기 위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제되고 제한된 환경에서 데이터 웨어하우스를 개발하고 시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 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편이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조회 및 응용 프로그램을 이용한 데이터 접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투명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구현 계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 및 다원을 추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0BF-88FB-4CD8-A452-60C0ACC6C4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3BE24-4A11-4FD0-89D0-7C3507A866B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4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점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point)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나의 부서에서 필요한 구체적이고 협소한 의미의 요건들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통 접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후 업무에 대한 통합된 시각을 제공하는 의사 결정 지원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개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전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8E1F-4136-43E2-9044-AE5AC9F32F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59E43-F0A1-45E2-AA96-501429EFB29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리 관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포함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성공 요인과 성과 측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높은 수준의 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요소와 위험을 줄이기 위한 제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 사항 관리에 관한 토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목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정적 성공 요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평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사항 관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E66-A691-4DF2-ACA5-3165D804B2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5D1D4-A50A-4175-99C0-A97A9621CA1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을 개발하기위한 한 가지 접근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문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획된 그리고 조정된 데이터 웨어하우징 개발이 이루어질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체계화된 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목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그리고 개념들을 조직체에게 전달하고 이해시키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미래의 비전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에 도달하는 확실한 단계들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915-02F0-4E30-99FA-9BB6ECCEF38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F2149-45C7-4416-9639-4E19B940232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의 개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성 및 발표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월 이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의 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면담 횟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전에 문서화된 구조상의 노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상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원자의 긴급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팀 규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95F-43AC-4EFD-9F1E-3672C1FCBC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5D889-2DD2-40D1-BA10-75422C124FD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목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의 정보 필요성 만족 범위 평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영역에서의 실행 과정을 권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목적을 위하여 전략 정보의 적시 포착과 배포에 적합한 구조 창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기반 도구를 비롯한 새로운 기술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D68-642C-46AA-A59D-BD79E02A58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E2FF1-4759-49C4-A5AE-6C99CCD8FAA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연구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 –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외부 자문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일제 팀 구성원 중 한 명은 내부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B0C-4E0B-4C4E-B3E7-0D3DF1EFE1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4E700-9EEE-49A2-A5AE-67325BFADC4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연구 활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사업 관계 인사와 면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잔존 시스템과 관련된 문서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구조 문서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권고사항 전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실행 과정을 권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조직체의 우선 순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필요사항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및 기술 환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FFB-CB42-49F7-BE1E-890A6C0DC2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6244A-6507-4573-83F2-9A44C5733D4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문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 차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평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F21-0BC7-441A-9ECC-8D3D67A029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82287-7674-46FE-BF31-8F8C396A15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전략과 관련된 핵심적인 권고 사항들을 요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대한 타당한 사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과 조직체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점진적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음 단계를 진행하기 위한 경영진의 행동 또는 승인에 대한 요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6EE-ECBC-42D7-B44E-2F967784E5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2D337-6C66-484C-A55D-F6DACE9D418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현재 평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리 우선 순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4-3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 주제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분화 정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부 사항 수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품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확성 완전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일관성과 무결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도 패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공유 및 분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시성과 과거 기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소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워크스테이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AD0-DF35-4513-9AA3-7F675F6E73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4F881-0F37-431D-99CB-8F336BBE97B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박종수</dc:creator>
  <dc:description/>
  <dc:language>en-US</dc:language>
  <cp:lastModifiedBy>박종수</cp:lastModifiedBy>
  <cp:lastPrinted>1999-09-10T20:38:56Z</cp:lastPrinted>
  <dcterms:modified xsi:type="dcterms:W3CDTF">2002-04-09T05:57:08Z</dcterms:modified>
  <cp:revision>217</cp:revision>
  <dc:subject/>
  <dc:title>데이터 웨어하우징 개발 전략</dc:title>
</cp:coreProperties>
</file>