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726-2FF1-4EB4-8639-B708334D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1C7-DB77-4676-9C90-42774173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DAC-D5F7-471E-A35B-5CDC6D63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1E0-3FF4-4842-B800-A3CE6302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542C-32EE-42CA-B5AF-2FAC7ECD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6670-8123-4C20-B090-C17323BA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4C27-E292-478C-94B8-E8173E12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C66E-610D-4977-92B0-5320FF6E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423A-1B33-4C42-BB78-30615470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DD1D-588A-41A0-BDDF-D655BF9B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9CCC-4581-4BC9-9F70-82FDABA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5D8-2112-4CB2-AC24-BF9C70DB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EAFC-56A2-4716-BEA5-00B24A4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13A0-5CAF-4D90-8868-3B4A74F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C92C-C8C4-4A0A-B5E4-9CB476EC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FA7D-355B-4182-8152-25B79DED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3C4E-CD60-456E-895E-4976972E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F4E-FBE2-4224-8BF8-BB6D57D7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8F6-68D1-4B04-960B-8FDFDB7B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96E-917F-4856-9FD5-0BCAC249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78E-94B8-4164-9DC3-33A4A3B3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CD7-252D-4C4F-94F6-288D0233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04E-0421-4BAF-B12D-1D67262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EDC-674E-4220-B004-BE6C9C22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4DFC-1A08-41D5-8161-4E1B474EBFE1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5FBF-E191-4DA1-AB81-06BDEE86030C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C771-9CF8-4722-8809-67E170A336CD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925B-2413-4AB2-8B6C-94015F70449D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702-B3A4-49DC-BC6B-0D1F1F9DC8A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509DC-B91B-472C-BAD9-3F3B64E556F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289-F14F-4D0B-8557-59B4B06B05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FC5CB-9C8F-41B1-8166-EA36BCBB2BB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F7F-E79D-465D-AD76-1266F63E40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E0903-5457-45D0-9F99-C4938DEE034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647-465A-46FE-BC4E-05F2AFCD3B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E7AA4-62C1-4B06-8BC6-DD52C6B188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E19-744D-47C7-87EC-84C75DEE11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BA441-3229-4BCC-86FE-AB0831DADD5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9D1-F332-44F5-A879-BBA3FF4422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5112C-2571-46E5-9D69-938BFAFCEF2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66A-0B14-496F-B384-3CE08A91EB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EAC6E-9430-4B66-A3E3-856DECE1079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FD8-1C4B-4217-A12C-1EFAEC3A09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0009B-F77C-41DF-94BB-7F6D8142B85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206-0986-47DE-92E6-EDCB80CF60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D2A04-77B9-4F5B-9575-AED96E03628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D7F-80BE-48E5-9ED3-123DD16C0F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A21FB-8E9B-454E-91BC-CD69B3B4B80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2D2-02D1-423E-A456-9448142202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3187A-E152-4045-AE9A-37F3EC9C5CD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446-24EF-4497-B568-BBC165E3BD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6E8F5-6646-4FFF-BCFA-F7833C9C990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BC6-6A7C-42E9-B58B-DE5AA3FEC6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B8082-1691-412C-9ABD-B00A9E7A576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39E-8187-4182-AB1D-B2D8F00AC6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13474-73BC-4105-B94A-F04FEF6A1AA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5:22:52Z</dcterms:modified>
  <cp:revision>237</cp:revision>
  <dc:subject/>
  <dc:title>제6장 데이터 웨어하우스의 관리</dc:title>
</cp:coreProperties>
</file>