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58B6-0723-4D32-B533-A5FC8A50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C2F-9541-4CEB-8064-940BACFE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7E1-FC21-45C0-88D3-D11228D7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5DD-24F0-4CF3-8909-A4CE2FFA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D402-1FE2-4E26-BEA4-A0315F1F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6E9E-BD21-4E70-A648-9C3D2E63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6473-A2CA-4603-B358-F4C47D65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F415-1046-4D0B-909F-1506A711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E1EA-292D-4148-8DAE-DA98E522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3C3D-DA97-4BC3-8884-5EB75E36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34FA-9D3E-4CC3-922E-BE3AD419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6E4-3FD4-40E5-81D8-64DB2034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29B6-F447-40D5-AFFF-60EA24F0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CFFC-261D-4264-BC31-84796317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7931-5420-4E39-8799-E8A4DAB1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788E-1116-407F-8DCB-809B4F1D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724E-D1AE-4E76-97FC-74AEEDCC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F48-1924-4F90-9C41-E1575877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BEC-96DB-44C9-9046-1F3EB38D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201-672F-451E-85A9-552B1218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F2F-384A-4FD6-B7E1-259CD687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806-D265-4289-93A4-782BE262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D8A-D265-4ADB-AA19-31605CC4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E8F-10DF-4EBC-B56E-4AC99B2A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1507-C12E-4E12-8C71-7E66C2FD521F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5711-9536-4389-8403-A1996DF43B57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E9AC-0D10-44DA-8932-3EFDC9DC19F3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8159-7B5B-4F40-8B2C-88FF70D8AD59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6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EAA-0F3B-4A0A-BC71-C999B2F4329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6DA10-9A31-4A39-BBE1-615E5A092AE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ecur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플리케이션의 최소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퍼포먼스의 최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 축소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 계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curity hierarchy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품목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35F-07B8-4511-B53C-7F367EAD75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EE85C-DFA8-4D0B-A584-FD120D2FF7F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과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mmary proces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4FB-D057-47B8-9065-133E8DF121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9B575-A108-4660-8DE0-4C2C7E505B6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데이터를 추출하는 과정이 복잡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문제점이 발생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정을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xtraction, Transformation, Transpor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시점에 원하는 데이터를 가져온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정확히 반영되어 원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무결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integrity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1DF-3956-4591-A947-336F2A35FE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1CCBC-94EC-4719-9E40-FDB7613910F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추출을 자동화하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em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장시간의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상적인 작업인지를 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진행 상화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필요 정보를 메타 테이블에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DF3-88E9-42F6-99C8-EBDF58E309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BC9C0-3085-4F27-A497-F3F882E1268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내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별 필요 작업 정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작업별로 모듈화 하는 것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동화 첫걸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주 사실 테이블에 대한 데이터를 추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삭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별 증분 데이터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약 사항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인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모듈별 프로그램 작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job queue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에 등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5EB-DC68-44D6-A506-A433824572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ECFD8-FF53-4526-AF6B-87F623CBB5A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ummary proces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하는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시점에 원하는 데이터를 빠르게 제공함으로써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의사결정을 지원하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시간이 경과함에 따라 데이터 양이 증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실적으로 대량의 데이터를 온라인으로 처리하는 것은 불가능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본적인 데이터 양이 줄어들면 가능하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하는 데이터의 크기를 줄이는 요약기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은 데이터 무결성 문제를 야기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약 테이블을 자동 생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관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6D5-8566-4A17-A052-0D43F03AC4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9B13C-DBED-4494-8973-F46B14017A8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테이블 관리의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에서 데이터의 정합성을 보장하기는 아주 어렵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문제점 해결을 위한 기본 개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삭제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의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의 무결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6A4-77FC-4B4B-B329-A7BBCDA7B5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6B0B0-4E24-45BE-955D-DB6564B1D48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관리를 위한 메타 데이터 설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신속 정확한 요약 과정을 위하여 별도의 메타 데이터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는 데이터의 일치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 업데이트 및 확장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 메타 데이터 설계에 대한 가장 기본적인 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st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생성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반영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요약 생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60E3-8E1B-485D-997C-BA5D43C625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025F5-27E2-4FCF-81C6-AE1D8EB010F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보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산출되는 데이터는 의사결정의 토대가 되는 기본 정보이므로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누출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의사결정 정보의 산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에 대한 보안도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한정된 범위 내에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8962-B67D-47C8-9E79-7ADA7A2194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435FC-7A9D-4C94-89FA-7B4B7B743FA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3:38:49Z</dcterms:modified>
  <cp:revision>232</cp:revision>
  <dc:subject/>
  <dc:title>제6장 데이터 웨어하우스의 관리</dc:title>
</cp:coreProperties>
</file>