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053-E663-41CF-8BC1-0D933C35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1CF-5574-43E6-A86C-698F0EC7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5DE-4B2C-42EC-8A64-763317BB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E47-8129-4596-8DC3-F9045476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71CB-125E-437C-9E99-B64A36CA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0194-7F57-472C-AB7A-ED2592C7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E3C1-C9AC-4244-BB30-012C7FE4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7851-8286-453C-A7A6-A1A0BFD0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EA49-031B-4ED7-8A86-010A2991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7EE2-C422-43F7-9ED5-9E9064D2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7BC5-7F1A-4850-86F7-AB5E89E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4BD-871C-46A2-AFE8-945D2AF5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843B-2760-41C0-B057-CFF5E835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83F6-5C8C-419C-9C0B-8E45F1E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EF1D-A82F-4AA2-9D44-6408976E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49AA-5D5B-4C62-A002-A22D0F7F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01BD-B322-4A60-8CC6-C83D6B83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03E-85A5-4CE7-8C40-BF45669C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DE1-E874-408E-AE3F-E2BCD95A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818-D990-43B0-B852-17F83E80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593-FB62-4FF4-9AB3-563C3DB7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C5C-CFF9-4260-B826-65EFB76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7F1-72EF-42F5-9DB4-CB099A1B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0F1-EDC8-4775-8564-EA915B74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9C65-79E6-44E4-BB1F-B7A8A6BE55F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96E1-9728-4CDE-8B7E-4765982A969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284-6BDF-48E4-A88C-5E4E19AA78E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통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 웨어하우스 도입시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B20-65AB-41C5-871E-70BBEBD798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  <a:ea typeface="굴림"/>
              </a:rPr>
              <a:t>ERP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란 무엇인가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?</a:t>
            </a:r>
            <a:br>
              <a:rPr sz="4400"/>
            </a:b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tp://www.valhae.com/business/erp.html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  <a:ea typeface="굴림"/>
              </a:rPr>
              <a:t>Enterprise Resource Planning/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  <a:ea typeface="굴림"/>
              </a:rPr>
              <a:t>전사적 자원관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사전체 경영자원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즉 생산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물류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계 등의 기업업무를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전사적인 경영자원으로 활용하기 위하여 최적화하는 시스템으로 주로 통합시스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기업의 경영목적을 가장 효율적으로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기업내의 생산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계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영업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재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물류 등의 업무를 통합적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조직적으로 연계 관리하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사 내 모든 정보를 공유하며 정보를 만들어 제공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기업의 생산성과 경쟁력을 극대화시키는 통합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시스템 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(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OLTP layer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software, 177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페이지 참조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7E1-01FC-4EFC-8FA3-50CC1F7539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rp_p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90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762120"/>
            <a:ext cx="7391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alhae.com/business/er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B27-AC92-432D-8D5E-B44A79685F9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구 우수 모범 기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st practic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프로세스를 담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stomi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의 프로세스를 바꾸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려운 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장표를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ing syste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표준화된 장표와 그 외는 프로그래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하면 정형화된 장표와 비정형화된 장표를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558-B9D0-43B3-9508-6A2DE2B2AF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운영계에 해당하는 시스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정보계에 해당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을 처리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의 결과를 분석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하나의 하드웨어에 구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동일한 하드웨어에서 운영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부하를 줄 수 있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하드웨어를 사용하는 것이 바람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순서는 별 문제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B1D-F4DD-41A6-92D1-0251C85BD5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어떻게 추출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vendo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제공하는 추출 도구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 데이터 마트의 위험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추출하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부서 단위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목적별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추세는 전사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고급 데이터 분석의 내용을 제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업의 경영 활동에 부가가치를 창조할 수 있는 시스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251-CC99-4C8D-B408-CCE82A1ADA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acl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88D-7431-4350-9663-94A3D40723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A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DF8-EE3B-4905-B7CF-5028DEAC17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8:20:24Z</dcterms:modified>
  <cp:revision>276</cp:revision>
  <dc:subject/>
  <dc:title>제6장 데이터 웨어하우스의 관리</dc:title>
</cp:coreProperties>
</file>