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320840" y="838080"/>
            <a:ext cx="8502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293760" y="6336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95360" y="2552760"/>
            <a:ext cx="653580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ROWID               ROWNUM   EMPNO 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 ------- ------- 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2.0005       3    7698 B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5.0005       4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769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BLAKE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&lt;- »èÁ¦ ´ë»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6.0005       5    7782 CL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1.0005       2    7788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7.0005       6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778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COT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&lt;- »èÁ¦ ´ë»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B.0005      10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778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COT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&lt;- »èÁ¦ ´ë»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8.0005       7    7839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0.0005       1    7844 TU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9.0005       8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784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URNER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&lt;- »èÁ¦ ´ë»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0024F04.000A.0005       9    7876 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15880" y="1341360"/>
            <a:ext cx="4294080" cy="124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ROWID, ROWNUM, EMPNO, 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EMPNO, ROW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06280" y="1162080"/>
            <a:ext cx="950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68440" y="2952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. Áßº¹µÈ ·Î¿ì¸¸ °ñ¶ó¼­ »èÁ¦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498680" y="228600"/>
            <a:ext cx="8804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4.  Á¦Ç°º° Áý°è¿Í µî±Þº° Áý°è¸¦ °°ÀÌ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33360" y="1662120"/>
            <a:ext cx="9042480" cy="279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2000" spc="-1" strike="noStrike">
                <a:solidFill>
                  <a:srgbClr val="ff0033"/>
                </a:solidFill>
                <a:latin typeface="XXXXXX"/>
                <a:ea typeface="XXXXXX"/>
              </a:rPr>
              <a:t>DECODE(Á¦Ç°,'HP', Á¦Ç°, 'LD', ¸ðµ¨¸í, 'PP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</a:t>
            </a:r>
            <a:r>
              <a:rPr b="1" lang="en-US" sz="2000" spc="-1" strike="noStrike">
                <a:solidFill>
                  <a:srgbClr val="ff0033"/>
                </a:solidFill>
                <a:latin typeface="XXXXXX"/>
                <a:ea typeface="XXXXXX"/>
              </a:rPr>
              <a:t>DECOE(¸ðµ¨¸í, 'P530C', ¸ðµ¨¸í, '±âÅ¸')) Ç°¸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SUM(¼ö·®) ¼ö·®, SUM(¸ÅÃâ¾×) ¸ÅÃâ¾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Å×ÀÌº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WHERE  ¸ÅÃâÀÏ LIKE '199610%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Á¦Ç°,'HP', Á¦Ç°, 'LD', ¸ðµ¨¸í, 'PP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2000" spc="-1" strike="noStrike">
                <a:solidFill>
                  <a:srgbClr val="ff0033"/>
                </a:solidFill>
                <a:latin typeface="XXXXXX"/>
                <a:ea typeface="XXXXXX"/>
              </a:rPr>
              <a:t>DECODE(¸ðµ¨¸í, 'P530C', ¸ðµ¨¸í, '±âÅ¸'))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36520" y="1154160"/>
            <a:ext cx="4680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498680" y="228600"/>
            <a:ext cx="8366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5. ´çÀÏ ºÐ, ÀÏÁÖÀÏ ºÐ, ÇÑ´Þ ºÐÀ» °°ÀÌ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3200" y="1714680"/>
            <a:ext cx="8763120" cy="4292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7524720" y="2446200"/>
            <a:ext cx="1797120" cy="12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Î¼­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Ö±ÙÃÖ°í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98680" y="228600"/>
            <a:ext cx="8366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5. ´çÀÏ ºÐ, ÀÏÁÖÀÏ ºÐ, ÇÑ´Þ ºÐÀ» °°ÀÌ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760" y="1519200"/>
            <a:ext cx="8961480" cy="4711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LEDEP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 DECODE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_CHAR (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YS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'YYYYMMDD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QTY, 0 )) AS '´çÀÏÇÕ°è'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 DECODE(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IG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8 - (SYSDATE - TO_DATE(SALEDATE, 'YYYYMMDD')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, SALEQTY, 0 )) AS  'ÀÏÁÖÀÏºÐÇÕ°è'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MAX( SALEDATE || CHULQTY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9, 20) AS 'ÃÖ±Ù ÃÖ°íºÐ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SALEAMT) AS '¿ù°£ÇÕ°è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ÆÇ¸Å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LIKE '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SALEDEP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6.  ÇÑ Å×ÀÌºíÀÇ °ªÀ» °¡·Î·Î µÎ ¹ø Ç¥½Ã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63640" y="1905120"/>
            <a:ext cx="7672320" cy="2542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   EMPNO  ENAME     JOB         EMPNO  ENAME    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  --------- ---------  ------  --------- 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7369  SMITH     CLERK        7499  ALLEN     SALE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7521  WARD      SALESMAN     7566  JONES    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7654  MARTIN    SALESMAN     7698  BLAKE    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7782  CLARK     MANAGER      7788  SCOTT     AN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7839  KING     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8440" y="1206360"/>
            <a:ext cx="4745160" cy="8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89200" y="1901880"/>
            <a:ext cx="3313080" cy="2378160"/>
            <a:chOff x="1789200" y="1901880"/>
            <a:chExt cx="3313080" cy="2378160"/>
          </a:xfrm>
        </p:grpSpPr>
        <p:sp>
          <p:nvSpPr>
            <p:cNvPr id="138" name=""/>
            <p:cNvSpPr/>
            <p:nvPr/>
          </p:nvSpPr>
          <p:spPr>
            <a:xfrm>
              <a:off x="1789200" y="1901880"/>
              <a:ext cx="0" cy="237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2280" y="1901880"/>
              <a:ext cx="0" cy="237816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6.  ÇÑ Å×ÀÌºíÀÇ °ªÀ» °¡·Î·Î µÎ ¹ø Ç¥½Ã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6880" y="1128600"/>
            <a:ext cx="5607000" cy="2481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ROWNUM,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TRUN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(ROWNUM+1)/2) AS O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DE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 MOD(ROWNUM,2), 1, EMPNO, NUL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S FIRST_EMP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DE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 MOD(ROWNUM,2), 0, EMPNO, NUL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S SECOND_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76200" y="3232080"/>
            <a:ext cx="3610080" cy="3516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OWNUM  ORD FIRST_EMPNO SECOND_EMP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-- ---- ----------- 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1        73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  1                     7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    2        75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     2                     7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5     3        76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     3                     76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7     4        77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     4                     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     5        78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160880" y="4473720"/>
            <a:ext cx="5581800" cy="2182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TRUNC((ROWNUM+1)/2) AS O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1, EMPNO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S FIRST_EMP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0, EMPNO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S SECOND_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GROUP B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TRUNC((ROWNUM+1)/2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64440" y="2727360"/>
            <a:ext cx="3365640" cy="2206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RD  FIRST_EMPNO SECOND_EMP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----------- 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7369         7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7521         75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 7654         76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4        7782         77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5        78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99880" y="3513960"/>
            <a:ext cx="693360" cy="693360"/>
          </a:xfrm>
          <a:custGeom>
            <a:avLst/>
            <a:gdLst/>
            <a:ahLst/>
            <a:rect l="0" t="0" r="r" b="b"/>
            <a:pathLst>
              <a:path w="1926" h="1926">
                <a:moveTo>
                  <a:pt x="783" y="0"/>
                </a:moveTo>
                <a:lnTo>
                  <a:pt x="0" y="783"/>
                </a:lnTo>
                <a:lnTo>
                  <a:pt x="882" y="1665"/>
                </a:lnTo>
                <a:lnTo>
                  <a:pt x="622" y="1926"/>
                </a:lnTo>
                <a:lnTo>
                  <a:pt x="1652" y="1652"/>
                </a:lnTo>
                <a:lnTo>
                  <a:pt x="1926" y="622"/>
                </a:lnTo>
                <a:lnTo>
                  <a:pt x="1665" y="882"/>
                </a:lnTo>
                <a:lnTo>
                  <a:pt x="783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6.  ÇÑ Å×ÀÌºíÀÇ °ªÀ» °¡·Î·Î µÎ ¹ø Ç¥½Ã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52600" y="1219320"/>
            <a:ext cx="7556400" cy="249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(ROWNUM+1)/2) AS O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1, EMPNO )) AS FIRST_EMP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1, ENAME )) AS F_E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1, JOB   )) AS F_JO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0, EMPNO )) AS SECOND_EMP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0, ENAME )) AS F_E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DECODE( MOD(ROWNUM,2), 0, JOB   )) AS F_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GROUP B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TRUNC((ROWNUM+1)/2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9080" y="1212840"/>
            <a:ext cx="13161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4360" y="4216320"/>
            <a:ext cx="6291360" cy="249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(A.RNUM+1)/2) AS O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.EMPNO, A.ENAME, A.JOB,  B.EMPNO, B.ENAME, B.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(SELECT  ROWNUM RNUM, EMPNO, ENAME,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MOD(ROWNUM,2) = 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 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RNUM, EMPNO, ENAME,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MOD(ROWNUM,2) =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A.RNUM + 1 = B.RNUM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9080" y="4192560"/>
            <a:ext cx="1547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6.  ÇÑ Å×ÀÌºíÀÇ °ªÀ» °¡·Î·Î µÎ ¹ø Ç¥½Ã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4840" y="1652760"/>
            <a:ext cx="8836200" cy="403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O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_EMPNO AS EMPNO, A.ENAME, A.JO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_EMPNO AS EMPNO, B.ENAME, B.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TRUNC((ROWNUM+1)/2) AS OR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 MOD(ROWNUM,2), 1, EMPNO, NULL)) AS F_EMP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 MOD(ROWNUM,2), 0, EMPNO, NULL)) AS S_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TRUNC((ROWNUM+1)/2) ), EMP A, EM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F_EMPNO = A.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_EMPNO = B.EMPNO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ORD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7800" y="1112760"/>
            <a:ext cx="3159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3 - ¹®Á¦Á¡ ¸¹À½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95160" y="1882800"/>
            <a:ext cx="4049640" cy="1366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K1, PK2, DUMMY, ROW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ST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PK1, PK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213520" y="1155600"/>
            <a:ext cx="2814480" cy="6057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K1   PK2    DUMMY  ROW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   -----  ------ 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1   AS011     1   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1   AS012     2     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1   AS013     3   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1   AS014     4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1   AS015     5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2   AS021     1 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2   AS022     2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2   AS023     3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03   AS021     1     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1     1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2     2    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3     3    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4     4    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5     5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6     6   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7     7    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  BS018     8    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  BS021     1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  BS022     2    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  BS023     3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  BS024     4    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01   CS011     1    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01   CS012     2    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280" y="1050840"/>
            <a:ext cx="1736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7.  °ªÀÌ ¹Ù²ð ¶§¸¶´Ù ÀÏ·Ã¹øÈ£¸¦ ´Ù½Ã ½ÃÀÛ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7.  °ªÀÌ ¹Ù²ð ¶§¸¶´Ù ÀÏ·Ã¹øÈ£¸¦ ´Ù½Ã ½ÃÀÛ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11120" y="1635120"/>
            <a:ext cx="7873920" cy="252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B.PK1, B.RNUM AS B_RNUM, C.RNUM AS C_RNUM, C.C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A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RNUM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PK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 COUNT(*) AS CNT  FROM   TST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BY  PK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)  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RNUM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PK1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 COUNT(*) AS CNT  FROM   TST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BY  PK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)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B.RNUM &gt; C.RNUM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280" y="1050840"/>
            <a:ext cx="390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TEP 1 - ´©Àû°ª ±¸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7840" y="467352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44920" y="3533760"/>
            <a:ext cx="5043600" cy="315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559640" y="4187880"/>
            <a:ext cx="1816200" cy="242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A01  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A02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A03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B01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B02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C01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0" y="4187880"/>
            <a:ext cx="1816200" cy="242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A01  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A02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A03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B01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B02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C01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242040" y="4410000"/>
            <a:ext cx="1573200" cy="3603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242040" y="4784760"/>
            <a:ext cx="1573200" cy="36036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242040" y="5149800"/>
            <a:ext cx="1573200" cy="360360"/>
          </a:xfrm>
          <a:prstGeom prst="line">
            <a:avLst/>
          </a:prstGeom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242040" y="4424400"/>
            <a:ext cx="1565280" cy="73008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242040" y="4782960"/>
            <a:ext cx="1565280" cy="730440"/>
          </a:xfrm>
          <a:prstGeom prst="line">
            <a:avLst/>
          </a:prstGeom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242040" y="4424400"/>
            <a:ext cx="1560600" cy="1095480"/>
          </a:xfrm>
          <a:prstGeom prst="line">
            <a:avLst/>
          </a:prstGeom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34240" y="5643720"/>
            <a:ext cx="4953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6680" y="3524400"/>
            <a:ext cx="4659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NUM PK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NT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PK1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786880" y="4400640"/>
            <a:ext cx="61920" cy="6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91440" y="4400640"/>
            <a:ext cx="61920" cy="63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86760" y="4767120"/>
            <a:ext cx="61920" cy="63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244080" y="4405320"/>
            <a:ext cx="61920" cy="63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44080" y="4772160"/>
            <a:ext cx="61920" cy="63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244080" y="5119560"/>
            <a:ext cx="61920" cy="633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047000" y="1641600"/>
            <a:ext cx="124632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.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7.  °ªÀÌ ¹Ù²ð ¶§ ¸¶´Ù ÀÏ·Ã¹øÈ£¸¦ ´Ù½Ã ½ÃÀÛ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63640" y="1566720"/>
            <a:ext cx="6227640" cy="468828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K1  B_RNUM  C_RNUM     C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 ------- ------- 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02       2       1       5  &lt;-- A01 °ªÀÇ COUNT(*)  &lt;-- A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03       3       1       5  &lt;-- A01 °ªÀÇ COUNT(*)  &lt;-- A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03       3       2       3  &lt;-- A02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01       4       1       5  &lt;-- A01 °ªÀÇ COUNT(*)  &lt;-- B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01       4       2       3  &lt;-- A02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01       4       3       1  &lt;-- A03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02       5       1       5  &lt;-- A01 °ªÀÇ COUNT(*)  &lt;-- B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02       5       2       3  &lt;-- A02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02       5       3       1  &lt;-- A03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02       5       4       8  &lt;-- B01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01       6       1       5  &lt;-- A01 °ªÀÇ COUNT(*)  &lt;-- C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01       6       2       3  &lt;-- A02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01       6       3       1  &lt;-- A03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01       6       4       8  &lt;-- B01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01       6       5       4  &lt;-- B02 °ªÀÇ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. Áßº¹µÈ ·Î¿ì¸¸ °ñ¶ó¼­ »èÁ¦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44760" y="1506600"/>
            <a:ext cx="6012000" cy="124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ELEC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MPNO, ENAME  FROM  EM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&gt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ROWID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EM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EMPNO = B.EMPNO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47640" y="3171960"/>
            <a:ext cx="5897520" cy="124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FROM EM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MIN(ROWID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EM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EMPNO = B.EMPNO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7840" y="4844880"/>
            <a:ext cx="5899320" cy="124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LETE FROM EM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ROWI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(ROWID)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EM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EMPNO = B.EMPNO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7.  °ªÀÌ ¹Ù²ð ¶§ ¸¶´Ù ÀÏ·Ã¹øÈ£¸¦ ´Ù½Ã ½ÃÀÛ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17520" y="1123920"/>
            <a:ext cx="8381880" cy="316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PK1, B.RNUM,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NVL(SUM(C.CNT),0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S ACC_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AS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PK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COUNT(*) AS CNT  FROM   TST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K1))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RNUM, PK1,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COUNT(*) AS CNT  FROM   TST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K1))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RNUM &gt; C.RNUM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360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GROUP BY  B.PK1, B.RNUM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30760" y="3351240"/>
            <a:ext cx="5048280" cy="3135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845480" y="4005360"/>
            <a:ext cx="1816200" cy="242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A01  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A02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A03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B01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B02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C01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4600" y="3984480"/>
            <a:ext cx="1816200" cy="242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A01  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A02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A03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B01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B02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C01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527880" y="4227480"/>
            <a:ext cx="1573200" cy="1109520"/>
            <a:chOff x="6527880" y="4227480"/>
            <a:chExt cx="1573200" cy="1109520"/>
          </a:xfrm>
        </p:grpSpPr>
        <p:sp>
          <p:nvSpPr>
            <p:cNvPr id="188" name=""/>
            <p:cNvSpPr/>
            <p:nvPr/>
          </p:nvSpPr>
          <p:spPr>
            <a:xfrm flipV="1">
              <a:off x="6527880" y="4227480"/>
              <a:ext cx="1573200" cy="360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527880" y="4602240"/>
              <a:ext cx="1573200" cy="360360"/>
            </a:xfrm>
            <a:prstGeom prst="line">
              <a:avLst/>
            </a:prstGeom>
            <a:ln w="255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527880" y="4967280"/>
              <a:ext cx="1573200" cy="36036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527880" y="4241880"/>
              <a:ext cx="1565280" cy="730080"/>
            </a:xfrm>
            <a:prstGeom prst="line">
              <a:avLst/>
            </a:prstGeom>
            <a:ln w="255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527880" y="4600440"/>
              <a:ext cx="1565280" cy="73044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527880" y="4241880"/>
              <a:ext cx="1560600" cy="109512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 txBox="1"/>
          <p:nvPr/>
        </p:nvSpPr>
        <p:spPr>
          <a:xfrm>
            <a:off x="6413400" y="4052880"/>
            <a:ext cx="243000" cy="2397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45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5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120080" y="5460840"/>
            <a:ext cx="4953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862520" y="3341520"/>
            <a:ext cx="4659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RNUM PK1  CNT             RNUM PK1 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637320" y="3689280"/>
            <a:ext cx="900000" cy="5518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CC_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643800" y="4092480"/>
            <a:ext cx="706320" cy="304920"/>
            <a:chOff x="6643800" y="4092480"/>
            <a:chExt cx="706320" cy="304920"/>
          </a:xfrm>
        </p:grpSpPr>
        <p:sp>
          <p:nvSpPr>
            <p:cNvPr id="199" name=""/>
            <p:cNvSpPr/>
            <p:nvPr/>
          </p:nvSpPr>
          <p:spPr>
            <a:xfrm flipV="1">
              <a:off x="6643800" y="4235400"/>
              <a:ext cx="333360" cy="4680"/>
            </a:xfrm>
            <a:prstGeom prst="line">
              <a:avLst/>
            </a:prstGeom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2920" bIns="-52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6897600" y="4092480"/>
              <a:ext cx="452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400" spc="-1" strike="noStrike">
                  <a:solidFill>
                    <a:srgbClr val="ff3300"/>
                  </a:solidFill>
                  <a:latin typeface="XXXXXX"/>
                  <a:ea typeface="XXXXXX"/>
                </a:rPr>
                <a:t>(+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892160" y="4273560"/>
            <a:ext cx="2160720" cy="2383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K1 RNUM ACC_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 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01    1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02    2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03    3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01    4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02    5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01    6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7.  °ªÀÌ ¹Ù²ð ¶§ ¸¶´Ù ÀÏ·Ã¹øÈ£¸¦ ´Ù½Ã ½ÃÀÛ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20920" y="1274760"/>
            <a:ext cx="8180280" cy="543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PK1, A.PK2, A.DUMMY,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.RNUM - ACC_S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S  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PK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PK2, DUMMY, ROWNUM AS R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 PK2, DUM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ST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K1, PK2, DUMMY))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K1,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M(C.CNT),0) AS ACC_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AS RNUM, PK1,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 COUNT(*) AS CNT  FROM  TST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K1))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RNUM, PK1,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 COUNT(*) AS CNT  FROM  TST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K1))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RNUM &gt; C.RNUM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B.PK1)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A.PK1 = D.P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1,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2280" y="1050840"/>
            <a:ext cx="17175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´ä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473120" y="228600"/>
            <a:ext cx="840096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7.  °ªÀÌ ¹Ù²ð ¶§¸¶´Ù ÀÏ·Ã¹øÈ£¸¦ ´Ù½Ã ½ÃÀÛ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9200" y="1452600"/>
            <a:ext cx="6013440" cy="581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PACKAGE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AC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N_SUM  NUMB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UNCTION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PSUM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N_ELEM NUMBER, N_RNUM NUMBER ) RETURN NUMB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AGMA  RESTRICT_REFERENCES( PSUM, WNDS, RND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PACKAGE BODY AC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UNCTION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PSUM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N_ELEM NUMB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_RNUM NUMBER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TURN 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S   N_PREV_SUM  NUMB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IF N_RNUM = 1 THEN  </a:t>
            </a:r>
            <a:r>
              <a:rPr b="1" lang="en-US" sz="1200" spc="-1" strike="noStrike">
                <a:solidFill>
                  <a:srgbClr val="cc3300"/>
                </a:solidFill>
                <a:latin typeface="XXXXXX"/>
                <a:ea typeface="XXXXXX"/>
              </a:rPr>
              <a:t>-- INITI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GN_SUM :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_PREV_SUM := GN_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N_SUM := GN_SUM + N_EL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RETURN  N_PREV_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2880" y="1081080"/>
            <a:ext cx="17175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´ä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678120" y="3330720"/>
            <a:ext cx="6073920" cy="360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PK1, A.PK2, A.DUMMY , A.RNUM - ACC_SUM AS SE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 PK2, DUMMY , ROWNUM AS R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PK1, PK2,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TST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BY  PK1, PK2, DUMMY)) 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SELECT  PK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ACCUM.PSUM(CNT, ROWNUM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S ACC_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/* NOPARALLEL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K1, COUNT(*) AS C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TST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BY  PK1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WHERE  A.PK1 = D.PK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RDER BY  1, 2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573960" y="2071800"/>
            <a:ext cx="3143160" cy="112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ored Function È£ÃâÀº ´À¸®¹Ç·Î ³²¿ëÇÏ¸é ¾ÈµÊ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840800" y="5580000"/>
            <a:ext cx="200664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´©Àû°ª °è»ê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.3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498680" y="228600"/>
            <a:ext cx="83660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8.  ºÒ¿ë Ä«µå ¼ö¸¦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91960" y="1193760"/>
            <a:ext cx="8381880" cy="7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º»ÀÎ Ä«µå¿Í °¡Á· Ä«µå¸¦ ¿¬°üÇÏ¿© ÀÏÁ¤ ±â°£ »ç¿ëµÇÁö ¾ÊÀº Ä«µå¸¦ Ã£¾Æ³½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38280" y="2144880"/>
            <a:ext cx="75708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498680" y="228600"/>
            <a:ext cx="83660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8.  ºÒ¿ë Ä«µå ¼ö¸¦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1200" y="1092240"/>
            <a:ext cx="9537840" cy="223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  FROM  Ä«µåÁ¤º¸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NOT EXISTS  (SELECT 'X' FROM Ä«µå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( SELECT 'X' FROM Ä«µå»ç¿ë½ÇÀû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Ä«µå¹øÈ£ = B.Ä«µå¹øÈ£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B.Ä«µå¹øÈ£ = NVL(A.º»ÀÎÄ«µå¹øÈ£, A.Ä«µå¹øÈ£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</a:t>
            </a:r>
            <a:r>
              <a:rPr b="1" lang="en-US" sz="2000" spc="-1" strike="noStrike">
                <a:solidFill>
                  <a:srgbClr val="330099"/>
                </a:solidFill>
                <a:latin typeface="XXXXXX"/>
                <a:ea typeface="XXXXXX"/>
              </a:rPr>
              <a:t>PRIOR  B.Ä«µå¹øÈ£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= B.º»ÀÎÄ«µå¹øÈ£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1200" y="3327480"/>
            <a:ext cx="9537840" cy="3305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  FROM  Ä«µåÁ¤º¸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NOT EXISTS  (SELECT 'X' FROM Ä«µåÁ¤º¸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(SELECT 'X' FROM Ä«µåÁ¤º¸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EXISTS (SELECT 'X' FROM  Ä«µå»ç¿ë½ÇÀû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C.Ä«µå¹øÈ£ = D.Ä«µå¹øÈ£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ART WITH  C.Ä«µå¹øÈ£ = B.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ONNECT BY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PRIOR  C.Ä«µå¹øÈ£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= C.º»ÀÎÄ«µå¹øÈ£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B.º»ÀÎÄ«µå¹øÈ£ IS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ART WITH  B.Ä«µå¹øÈ£ = A.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ONNECT BY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PRIOR  B.º»ÀÎÄ«µå¹øÈ£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= B.Ä«µå¹øÈ£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9.  ÆÇ¸ÅÀÏÀÚ, ÆÇ¸Å·® º°·Î ´©Àû ÆÇ¸Å·®À»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13240" y="1322280"/>
            <a:ext cx="3479760" cy="489312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LDATE, 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FU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 BY 1, 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¸ÅÀÏÀÚ  ÆÇ¸Å·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03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08      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1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3    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4    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8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8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8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20     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25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19040" y="1797120"/>
            <a:ext cx="2755800" cy="1862280"/>
            <a:chOff x="1319040" y="1797120"/>
            <a:chExt cx="2755800" cy="1862280"/>
          </a:xfrm>
        </p:grpSpPr>
        <p:sp>
          <p:nvSpPr>
            <p:cNvPr id="220" name=""/>
            <p:cNvSpPr txBox="1"/>
            <p:nvPr/>
          </p:nvSpPr>
          <p:spPr>
            <a:xfrm>
              <a:off x="1319040" y="1797120"/>
              <a:ext cx="2755800" cy="1862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190440" indent="-190440">
                <a:lnSpc>
                  <a:spcPct val="12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FU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2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ÆÇ¸ÅÀÏÀÚ  VARCHAR2(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ÆÇ¸ÅÄÚµå  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ÆÇ¸Å·®    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39920" y="2371680"/>
              <a:ext cx="271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9.  ÆÇ¸ÅÀÏÀÚ, ÆÇ¸Å·® º°·Î ´©Àû ÆÇ¸Å·®À»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3680" y="1295280"/>
            <a:ext cx="7256520" cy="14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ÆÇ¸ÅÀÏÀÚ, A.ÆÇ¸Å·®, SUM(B.ÆÇ¸Å·®) AS ´©ÀûÆÇ¸Å·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FUN1 A, BFUN1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ÆÇ¸ÅÀÏÀÚ &gt;= B.ÆÇ¸ÅÀÏÀ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GROUP BY  A.ÆÇ¸ÅÀÏÀÚ, A.ÆÇ¸Å·®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65280" y="2847960"/>
            <a:ext cx="3508200" cy="404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¸ÅÀÏÀÚ  ÆÇ¸Å·® ´©ÀûÆÇ¸Å·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 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03      22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08      43         65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1      18         83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3      60       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14      40        1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19970218      15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19970218      19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19970218      23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20      65        3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70225      10        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881600" y="4944960"/>
            <a:ext cx="30560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°¡ µÇ´Â ºÎ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54400" y="4916520"/>
            <a:ext cx="713160" cy="491040"/>
          </a:xfrm>
          <a:custGeom>
            <a:avLst/>
            <a:gdLst/>
            <a:ahLst/>
            <a:rect l="0" t="0" r="r" b="b"/>
            <a:pathLst>
              <a:path w="1981" h="1364">
                <a:moveTo>
                  <a:pt x="1981" y="272"/>
                </a:moveTo>
                <a:lnTo>
                  <a:pt x="1981" y="1092"/>
                </a:lnTo>
                <a:lnTo>
                  <a:pt x="594" y="1092"/>
                </a:lnTo>
                <a:lnTo>
                  <a:pt x="594" y="1364"/>
                </a:lnTo>
                <a:lnTo>
                  <a:pt x="0" y="682"/>
                </a:lnTo>
                <a:lnTo>
                  <a:pt x="594" y="0"/>
                </a:lnTo>
                <a:lnTo>
                  <a:pt x="594" y="272"/>
                </a:lnTo>
                <a:lnTo>
                  <a:pt x="1981" y="27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9.  ÆÇ¸ÅÀÏÀÚ, ÆÇ¸Å·® º°·Î ´©Àû ÆÇ¸Å·®À»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4160" y="1117440"/>
            <a:ext cx="9586800" cy="2209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ÆÇ¸ÅÀÏÀÚ, A.ÆÇ¸Å·®, SUM(B.ÆÇ¸Å·®) AS ´©ÀûÆÇ¸Å·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SELECT ÆÇ¸ÅÀÏÀÚ, ÆÇ¸Å·® FROM  BFUN1 GROUP BY ÆÇ¸ÅÀÏÀÚ, ÆÇ¸Å·®) 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SELECT ÆÇ¸ÅÀÏÀÚ, ÆÇ¸Å·® FROM  BFUN1 GROUP BY ÆÇ¸ÅÀÏÀÚ, ÆÇ¸Å·®)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ÆÇ¸ÅÀÏÀÚ &gt; B.ÆÇ¸ÅÀÏÀÚ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&lt;---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Ç¸ÅÀÏÀÚ±îÁö¸¸ ±¸ºÐÇÏ¿© ´©Àû ºÐÀ» ±¸ÇÔ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  (A.ÆÇ¸ÅÀÏÀÚ = B.ÆÇ¸ÅÀÏÀÚ  AND  A.ÆÇ¸Å·® &gt;= B.ÆÇ¸Å·®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&lt;---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Ç¸Å·®±îÁö ±¸ºÐÇ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ÆÇ¸ÅÀÏÀÚ, A.ÆÇ¸Å·®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303200" y="3419640"/>
            <a:ext cx="3244680" cy="338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ÆÇ¸ÅÀÏÀÚ  ÆÇ¸Å·® ´©ÀûÆÇ¸Å·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 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9970203      22         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08      43         65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11      18         83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13      60        1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14      40        1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18      15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1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18      19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21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18      23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20      65        3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25      10       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81560" y="3936960"/>
            <a:ext cx="686160" cy="279720"/>
          </a:xfrm>
          <a:custGeom>
            <a:avLst/>
            <a:gdLst/>
            <a:ahLst/>
            <a:rect l="0" t="0" r="r" b="b"/>
            <a:pathLst>
              <a:path w="1906" h="777">
                <a:moveTo>
                  <a:pt x="0" y="258"/>
                </a:moveTo>
                <a:lnTo>
                  <a:pt x="0" y="517"/>
                </a:lnTo>
                <a:lnTo>
                  <a:pt x="1334" y="517"/>
                </a:lnTo>
                <a:lnTo>
                  <a:pt x="1334" y="777"/>
                </a:lnTo>
                <a:lnTo>
                  <a:pt x="1906" y="389"/>
                </a:lnTo>
                <a:lnTo>
                  <a:pt x="1334" y="0"/>
                </a:lnTo>
                <a:lnTo>
                  <a:pt x="1334" y="258"/>
                </a:lnTo>
                <a:lnTo>
                  <a:pt x="0" y="25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08480" y="4094280"/>
            <a:ext cx="3349800" cy="1179360"/>
          </a:xfrm>
          <a:prstGeom prst="rect">
            <a:avLst/>
          </a:prstGeom>
          <a:solidFill>
            <a:srgbClr val="d3e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ÆÇ¸ÅÀÏÀÚ  ÆÇ¸ÅÄÚµå     ÆÇ¸Å·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 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03      11         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9970203      11         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45040" y="3575160"/>
            <a:ext cx="37036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µÇ´Â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67280" y="5545080"/>
            <a:ext cx="486396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SELECT ÆÇ¸ÅÀÏÀÚ,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ÆÇ¸Å·®) FROM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9.  ÆÇ¸ÅÀÏÀÚ, ÆÇ¸Å·® º°·Î ´©Àû ÆÇ¸Å·®À»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4560" y="4605480"/>
            <a:ext cx="6915240" cy="1959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ÆÇ¸ÅÀÏÀÚ, SUM(B.ÆÇ¸Å·®) AS ´©ÀûÆÇ¸Å·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SELECT  ÆÇ¸ÅÀÏÀÚ  FROM BFUN1  GROUP BY ÆÇ¸ÅÀÏÀÚ)  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SELECT  ÆÇ¸ÅÀÏÀÚ, SUM(ÆÇ¸Å·®) AS ÆÇ¸Å·®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BFUN1  GROUP BY ÆÇ¸ÅÀÏÀÚ)  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ÆÇ¸ÅÀÏÀÚ &gt;= B.ÆÇ¸ÅÀÏÀ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BY  A.ÆÇ¸ÅÀÏÀÚ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451640" y="3868560"/>
            <a:ext cx="1905120" cy="321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Ç¸ÅÀÏÀÚ ´©ÀûÆÇ¸Å·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03     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08     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11      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13     1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14     1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18     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20     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70225     3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3920" y="4181400"/>
            <a:ext cx="37036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Âü°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460520"/>
            <a:ext cx="8825040" cy="249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ÆÇ¸ÅÀÏÀÚ, A.ÆÇ¸Å·®, SUM(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B.¼Ò°è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AS ´©ÀûÆÇ¸Å·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ÆÇ¸ÅÀÏÀÚ, ÆÇ¸Å·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FUN1 GROUP BY ÆÇ¸ÅÀÏÀÚ, ÆÇ¸Å·®) 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SELECT  ÆÇ¸ÅÀÏÀÚ, ÆÇ¸Å·®,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UM(ÆÇ¸Å·®) AS ¼Ò°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FUN1 GROUP BY ÆÇ¸ÅÀÏÀÚ, ÆÇ¸Å·®) 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ÆÇ¸ÅÀÏÀÚ &gt; B.ÆÇ¸ÅÀÏÀÚ    </a:t>
            </a:r>
            <a:r>
              <a:rPr b="1" lang="en-US" sz="1800" spc="-1" strike="noStrike">
                <a:solidFill>
                  <a:srgbClr val="cc3300"/>
                </a:solidFill>
                <a:latin typeface="XXXXXX"/>
                <a:ea typeface="XXXXXX"/>
              </a:rPr>
              <a:t>--- </a:t>
            </a:r>
            <a:r>
              <a:rPr b="1" lang="en-US" sz="1400" spc="-1" strike="noStrike">
                <a:solidFill>
                  <a:srgbClr val="cc3300"/>
                </a:solidFill>
                <a:latin typeface="XXXXXX"/>
                <a:ea typeface="XXXXXX"/>
              </a:rPr>
              <a:t>ÆÇ¸ÅÀÏÀÚ±îÁö¸¸ ±¸ºÐÇÏ¿© ´©Àû ºÐÀ» ±¸ÇÔ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R  (A.ÆÇ¸ÅÀÏÀÚ = B.ÆÇ¸ÅÀÏÀÚ  AND  A.ÆÇ¸Å·® &gt;= B.ÆÇ¸Å·®)  </a:t>
            </a:r>
            <a:r>
              <a:rPr b="1" lang="en-US" sz="1800" spc="-1" strike="noStrike">
                <a:solidFill>
                  <a:srgbClr val="cc3300"/>
                </a:solidFill>
                <a:latin typeface="XXXXXX"/>
                <a:ea typeface="XXXXXX"/>
              </a:rPr>
              <a:t>-- </a:t>
            </a:r>
            <a:r>
              <a:rPr b="1" lang="en-US" sz="1400" spc="-1" strike="noStrike">
                <a:solidFill>
                  <a:srgbClr val="cc3300"/>
                </a:solidFill>
                <a:latin typeface="XXXXXX"/>
                <a:ea typeface="XXXXXX"/>
              </a:rPr>
              <a:t>ÆÇ¸Å·®±îÁö ±¸ºÐÇ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241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BY  A.ÆÇ¸ÅÀÏÀÚ, A.ÆÇ¸Å·®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4040" y="993600"/>
            <a:ext cx="37036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069400" y="1914480"/>
            <a:ext cx="108432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1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98680" y="228600"/>
            <a:ext cx="83660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9.  ÆÇ¸ÅÀÏÀÚ, ÆÇ¸Å·® º°·Î ´©Àû ÆÇ¸Å·®À»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68200" y="1081080"/>
            <a:ext cx="5492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2 (Stored Function : ÄûÁî 7 ÂüÁ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3600" y="1528920"/>
            <a:ext cx="6008760" cy="55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PACKAGE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AC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N_SUM  NUMB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UNCTION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CSUM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N_ELEM NUMBER, N_RNUM NUMBER ) RETURN NUMB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AGMA  RESTRICT_REFERENCES(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CSUM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WNDS, RNDS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PACKAGE BODY ACC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UNCTION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CSUM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N_ELEM NUMB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_RNUM NUMBER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TURN  NUMBER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IF N_RNUM = 1 THEN  </a:t>
            </a:r>
            <a:r>
              <a:rPr b="1" lang="en-US" sz="1200" spc="-1" strike="noStrike">
                <a:solidFill>
                  <a:srgbClr val="cc3300"/>
                </a:solidFill>
                <a:latin typeface="XXXXXX"/>
                <a:ea typeface="XXXXXX"/>
              </a:rPr>
              <a:t>-- INITI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GN_SUM :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N_SUM := GN_SUM + N_EL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ff3300"/>
                </a:solidFill>
                <a:latin typeface="XXXXXX"/>
                <a:ea typeface="XXXXXX"/>
              </a:rPr>
              <a:t>RETURN  GN_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28960" y="3683160"/>
            <a:ext cx="5969160" cy="197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ÆÇ¸ÅÀÏÀÚ, ÆÇ¸Å·®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ACCUM.CSUM(¼Ò°è, ROWNUM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AS ´©ÀûÆÇ¸Å·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/*+ NOPARALLEL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ÆÇ¸ÅÀÏÀÚ, ÆÇ¸Å·®, SUM(ÆÇ¸Å·®) AS ¼Ò°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ROM  BFU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BY ÆÇ¸ÅÀÏÀÚ, ÆÇ¸Å·®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720280" y="5200560"/>
            <a:ext cx="1084320" cy="4460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4.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2. Á¤È®È÷ 10À§±îÁö¸¸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38160" y="1703520"/>
            <a:ext cx="4638600" cy="124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ROWNUM, SAL,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DER B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SAL DESC, ENAM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85960" y="2868480"/>
            <a:ext cx="7256520" cy="3876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OWNUM     SAL ENAME      JOB         EMP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-- ------- ---------- --------- 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    5000 KING       PRESIDENT    78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3    3000 FORD       ANALYST      79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    3000 SCOTT      ANALYST      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    2975 JONES      MANAGER      7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    2850 BLAKE      MANAGER      76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7    2450 CLARK      MANAGER      77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 1600 ALLEN      SALESMAN     7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    1500 TURNER     SALESMAN     78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4    1300 MILLER     CLERK        7934  &lt;---  9 ¹øÂ° ·Î¿ì  9 À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5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1250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MARTIN     SALESMAN     7654  &lt;---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10 ¹øÂ° ·Î¿ì 10 À§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 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1250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ARD       SALESMAN     7521  &lt;---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11 ¹øÂ° ·Î¿ì 10 À§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 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    1100 ADAMS      CLERK        7876  &lt;--- 12 ¹øÂ° ·Î¿ì 12 À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     950 JAMES      CLERK        7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800 SMITH      CLERK        73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6520" y="1101600"/>
            <a:ext cx="950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77720" y="3276720"/>
            <a:ext cx="361800" cy="339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826240" y="1106640"/>
            <a:ext cx="23893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øÇÏ´Â °á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23080" y="1568520"/>
            <a:ext cx="3579840" cy="315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OWNUM   SAL  ENAME   JOB       EMP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- ----- ------- ---------- 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5000  KING    PRESIDENT  78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3000  FORD    ANALYST    79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  3000  SCOTT   ANALYST    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   2975  JONES   MANAGER    7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5   2850  BLAKE   MANAGER    76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   2450  CLARK   MANAGER    77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7   1600  ALLEN   SALESMAN   74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   1500  TURNER  SALESMAN   78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   1300  MILLER  CLERK      79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   1250  MARTIN  SALESMAN   76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1   1250  WARD    SALESMAN   75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9391680" y="4276800"/>
            <a:ext cx="271440" cy="0"/>
          </a:xfrm>
          <a:prstGeom prst="line">
            <a:avLst/>
          </a:prstGeom>
          <a:ln w="7632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383160" y="4397400"/>
            <a:ext cx="0" cy="271440"/>
          </a:xfrm>
          <a:prstGeom prst="line">
            <a:avLst/>
          </a:prstGeom>
          <a:ln w="7632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3833640" y="1806480"/>
            <a:ext cx="1335240" cy="176400"/>
            <a:chOff x="3833640" y="1806480"/>
            <a:chExt cx="1335240" cy="176400"/>
          </a:xfrm>
        </p:grpSpPr>
        <p:sp>
          <p:nvSpPr>
            <p:cNvPr id="247" name=""/>
            <p:cNvSpPr/>
            <p:nvPr/>
          </p:nvSpPr>
          <p:spPr>
            <a:xfrm flipH="1">
              <a:off x="3833640" y="1889280"/>
              <a:ext cx="70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456080" y="188928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33640" y="1806480"/>
              <a:ext cx="205200" cy="176400"/>
            </a:xfrm>
            <a:custGeom>
              <a:avLst/>
              <a:gdLst/>
              <a:ahLst/>
              <a:rect l="0" t="0" r="r" b="b"/>
              <a:pathLst>
                <a:path fill="none" w="570" h="490">
                  <a:moveTo>
                    <a:pt x="0" y="0"/>
                  </a:moveTo>
                  <a:lnTo>
                    <a:pt x="570" y="244"/>
                  </a:lnTo>
                  <a:lnTo>
                    <a:pt x="0" y="49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803760" y="3308400"/>
            <a:ext cx="1425600" cy="197280"/>
            <a:chOff x="3803760" y="3308400"/>
            <a:chExt cx="1425600" cy="197280"/>
          </a:xfrm>
        </p:grpSpPr>
        <p:sp>
          <p:nvSpPr>
            <p:cNvPr id="251" name=""/>
            <p:cNvSpPr/>
            <p:nvPr/>
          </p:nvSpPr>
          <p:spPr>
            <a:xfrm flipH="1">
              <a:off x="3803760" y="3403440"/>
              <a:ext cx="760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68680" y="340344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3760" y="3308400"/>
              <a:ext cx="221040" cy="197280"/>
            </a:xfrm>
            <a:custGeom>
              <a:avLst/>
              <a:gdLst/>
              <a:ahLst/>
              <a:rect l="0" t="0" r="r" b="b"/>
              <a:pathLst>
                <a:path fill="none" w="614" h="548">
                  <a:moveTo>
                    <a:pt x="0" y="0"/>
                  </a:moveTo>
                  <a:lnTo>
                    <a:pt x="614" y="272"/>
                  </a:lnTo>
                  <a:lnTo>
                    <a:pt x="0" y="5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935760" y="1768320"/>
            <a:ext cx="1235160" cy="208440"/>
            <a:chOff x="6935760" y="1768320"/>
            <a:chExt cx="1235160" cy="208440"/>
          </a:xfrm>
        </p:grpSpPr>
        <p:sp>
          <p:nvSpPr>
            <p:cNvPr id="255" name=""/>
            <p:cNvSpPr/>
            <p:nvPr/>
          </p:nvSpPr>
          <p:spPr>
            <a:xfrm flipH="1">
              <a:off x="6935760" y="186840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12120" y="186840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35760" y="1768320"/>
              <a:ext cx="190800" cy="208440"/>
            </a:xfrm>
            <a:custGeom>
              <a:avLst/>
              <a:gdLst/>
              <a:ahLst/>
              <a:rect l="0" t="0" r="r" b="b"/>
              <a:pathLst>
                <a:path fill="none" w="530" h="579">
                  <a:moveTo>
                    <a:pt x="0" y="0"/>
                  </a:moveTo>
                  <a:lnTo>
                    <a:pt x="530" y="287"/>
                  </a:lnTo>
                  <a:lnTo>
                    <a:pt x="0" y="57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1476360" y="268200"/>
            <a:ext cx="642456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0. 4/4ºÐ±â Á¡Æ÷º° ¸ÅÃâ¾×À» ±¸ÇÏ¶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06280" y="1162080"/>
            <a:ext cx="950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17520" y="3933720"/>
            <a:ext cx="1736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90400" y="4448160"/>
            <a:ext cx="6953400" cy="18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¡Æ÷ : PK_BRANCH             : BR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í°´ : PK_CUSTOMER          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°Ç° : PK_PRODUCT          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: PK_SALE          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: SALE_CUST_NO_SALEDATE : CUST_NO +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: SALE_PROD_NO_SALEDATE : PROD_NO +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234040" y="2998800"/>
            <a:ext cx="1684440" cy="1874160"/>
            <a:chOff x="5234040" y="2998800"/>
            <a:chExt cx="1684440" cy="1874160"/>
          </a:xfrm>
        </p:grpSpPr>
        <p:sp>
          <p:nvSpPr>
            <p:cNvPr id="264" name=""/>
            <p:cNvSpPr txBox="1"/>
            <p:nvPr/>
          </p:nvSpPr>
          <p:spPr>
            <a:xfrm>
              <a:off x="5234040" y="2998800"/>
              <a:ext cx="1684440" cy="1874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¹°Ç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¹°Ç°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¹°Ç°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°Á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Ü°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34040" y="3438360"/>
              <a:ext cx="1668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152800" y="1297080"/>
            <a:ext cx="1682640" cy="2614320"/>
            <a:chOff x="2152800" y="1297080"/>
            <a:chExt cx="1682640" cy="2614320"/>
          </a:xfrm>
        </p:grpSpPr>
        <p:sp>
          <p:nvSpPr>
            <p:cNvPr id="267" name=""/>
            <p:cNvSpPr txBox="1"/>
            <p:nvPr/>
          </p:nvSpPr>
          <p:spPr>
            <a:xfrm>
              <a:off x="2152800" y="1297080"/>
              <a:ext cx="1682640" cy="2614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¸ÅÃâ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°í°´¹øÈ£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¹°Ç°¹øÈ£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ÆÇ¸Å·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Ü°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720" y="1692360"/>
              <a:ext cx="1670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8131320" y="1160640"/>
            <a:ext cx="1420920" cy="1757520"/>
            <a:chOff x="8131320" y="1160640"/>
            <a:chExt cx="1420920" cy="1757520"/>
          </a:xfrm>
        </p:grpSpPr>
        <p:sp>
          <p:nvSpPr>
            <p:cNvPr id="270" name=""/>
            <p:cNvSpPr txBox="1"/>
            <p:nvPr/>
          </p:nvSpPr>
          <p:spPr>
            <a:xfrm>
              <a:off x="8131320" y="1160640"/>
              <a:ext cx="1420920" cy="1757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¡Æ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¡Æ÷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¡Æ÷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¡Æ÷ÁÖ¼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42120" y="152388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230800" y="939960"/>
            <a:ext cx="1698480" cy="2244240"/>
            <a:chOff x="5230800" y="939960"/>
            <a:chExt cx="1698480" cy="2244240"/>
          </a:xfrm>
        </p:grpSpPr>
        <p:sp>
          <p:nvSpPr>
            <p:cNvPr id="273" name=""/>
            <p:cNvSpPr txBox="1"/>
            <p:nvPr/>
          </p:nvSpPr>
          <p:spPr>
            <a:xfrm>
              <a:off x="5230800" y="939960"/>
              <a:ext cx="1698480" cy="2244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°í°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°í°´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¡Æ÷¹øÈ£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°í°´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°¡»êÁ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½Å¿ëÇÑµ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4560" y="1276200"/>
              <a:ext cx="1674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422360" y="227160"/>
            <a:ext cx="642456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0. 4/4ºÐ±â Á¡Æ÷º° ¸ÅÃâ¾×À» ±¸ÇÏ¶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6200" y="988920"/>
            <a:ext cx="22334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×ÀÌºí »ó¼¼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77800" y="1482840"/>
            <a:ext cx="8777520" cy="6895800"/>
            <a:chOff x="577800" y="1482840"/>
            <a:chExt cx="8777520" cy="6895800"/>
          </a:xfrm>
        </p:grpSpPr>
        <p:sp>
          <p:nvSpPr>
            <p:cNvPr id="279" name=""/>
            <p:cNvSpPr txBox="1"/>
            <p:nvPr/>
          </p:nvSpPr>
          <p:spPr>
            <a:xfrm>
              <a:off x="577800" y="1484280"/>
              <a:ext cx="1733400" cy="468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Å×ÀÌºí¸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¡Æ÷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(BRANCH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°í°´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(CUSTOMER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(SALE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¹°Ç°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(PRODUC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981080" y="1484280"/>
              <a:ext cx="2106720" cy="551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Ñ±Û ÄÃ·³¸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Á¡Æ÷¹øÈ£</a:t>
              </a:r>
              <a:r>
                <a:rPr b="1" lang="en-US" sz="16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Á¡Æ÷¸í</a:t>
              </a:r>
              <a:r>
                <a:rPr b="1" lang="en-US" sz="16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Á¡Æ÷ÁÖ¼Ò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°í°´¹øÈ£</a:t>
              </a: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°í°´¸í</a:t>
              </a: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°¡»êÁ¡</a:t>
              </a: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½Å¿ëÇÑµµ</a:t>
              </a: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Á¡Æ÷¹øÈ£</a:t>
              </a:r>
              <a:r>
                <a:rPr b="1" lang="en-US" sz="1600" spc="-1" strike="noStrike">
                  <a:solidFill>
                    <a:srgbClr val="cc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¸ÅÃâÀÏÀÚ</a:t>
              </a: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°í°´¹øÈ£</a:t>
              </a: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¹°Ç°¹øÈ£</a:t>
              </a: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ÆÇ¸Å·®</a:t>
              </a: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¸ÅÃâ±¸ºÐ</a:t>
              </a: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´Ü°¡</a:t>
              </a:r>
              <a:r>
                <a:rPr b="1" lang="en-US" sz="1600" spc="-1" strike="noStrike">
                  <a:solidFill>
                    <a:srgbClr val="8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0099"/>
                  </a:solidFill>
                  <a:latin typeface="XXXXXX"/>
                  <a:ea typeface="XXXXXX"/>
                </a:rPr>
                <a:t>¹°Ç°¹øÈ£</a:t>
              </a:r>
              <a:r>
                <a:rPr b="1" lang="en-US" sz="1600" spc="-1" strike="noStrike">
                  <a:solidFill>
                    <a:srgbClr val="33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0099"/>
                  </a:solidFill>
                  <a:latin typeface="XXXXXX"/>
                  <a:ea typeface="XXXXXX"/>
                </a:rPr>
                <a:t>¹°Ç°¸í</a:t>
              </a:r>
              <a:r>
                <a:rPr b="1" lang="en-US" sz="1600" spc="-1" strike="noStrike">
                  <a:solidFill>
                    <a:srgbClr val="33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0099"/>
                  </a:solidFill>
                  <a:latin typeface="XXXXXX"/>
                  <a:ea typeface="XXXXXX"/>
                </a:rPr>
                <a:t>Ç°Á¾</a:t>
              </a:r>
              <a:r>
                <a:rPr b="1" lang="en-US" sz="1600" spc="-1" strike="noStrike">
                  <a:solidFill>
                    <a:srgbClr val="330099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330099"/>
                  </a:solidFill>
                  <a:latin typeface="XXXXXX"/>
                  <a:ea typeface="XXXXXX"/>
                </a:rPr>
                <a:t>´Ü°¡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271680" y="1486080"/>
              <a:ext cx="2098800" cy="551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¿µ¹® ÄÃ·³¸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NO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ADDR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O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ONUS_POINT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REDIT_LIMIT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NO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SALEDATE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O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ROD_NO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SALE_AMT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SALE_CLASS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UNIT_PRICE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ROD_NO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ROD_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ROD_CLASS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UNIT_PRICE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730760" y="1484280"/>
              <a:ext cx="2328840" cy="551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¼Ó¼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(6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10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30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6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10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NU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NU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6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8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6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6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NU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1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NU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6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4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VARCHAR2(10)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NU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6391440" y="1484280"/>
              <a:ext cx="795240" cy="689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ÀÎµ¦½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K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K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K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K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K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PK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7342200" y="1482840"/>
              <a:ext cx="2013120" cy="523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ºñ°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00 °Ç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000 °Ç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80,000 °Ç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500 °Ç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06520" y="1454040"/>
            <a:ext cx="8675640" cy="5005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6400" y="1843200"/>
            <a:ext cx="8631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5880" y="2732040"/>
            <a:ext cx="866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1480" y="5400720"/>
            <a:ext cx="8631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2360" y="3952800"/>
            <a:ext cx="8631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30320" y="1447920"/>
            <a:ext cx="0" cy="5016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1447920"/>
            <a:ext cx="0" cy="5016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86480" y="1447920"/>
            <a:ext cx="0" cy="5016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99280" y="1447920"/>
            <a:ext cx="0" cy="5016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77040" y="1447920"/>
            <a:ext cx="0" cy="5016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511280" y="227160"/>
            <a:ext cx="642456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0. 4/4ºÐ±â Á¡Æ÷º° ¸ÅÃâ¾×À» ±¸ÇÏ¶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3400" y="190008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65280" y="1689120"/>
            <a:ext cx="8310600" cy="2177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BR_NAME,   SUM(C.SALE_AMT*C.UNIT_PRICE)  AS  SUM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 BRANCH A,  CUSTOMER B,  SA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 A.BR_NO = B.BR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B.CUST_NO = C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C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1001'  AND  '199512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BR_NAM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2120" y="1131840"/>
            <a:ext cx="22334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ó½ÄÀû ÇØ´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22120" y="4218120"/>
            <a:ext cx="809640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SALEDATE ÀÎµ¦½ºÀÇ ºÒÇÊ¿äÇÑ »ç¿ëÀ¸·Î ´õ ´Ê¾îÁ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Á¶ÀÎ È½¼öÀÇ °ú´Ù·Î ÀÎÇÑ ¼öÇà¼ÓµµÀÇ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35040" y="5138640"/>
            <a:ext cx="608976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C.SALEDATE || '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1001' AND '199512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1480" y="5245200"/>
            <a:ext cx="406800" cy="216360"/>
          </a:xfrm>
          <a:custGeom>
            <a:avLst/>
            <a:gdLst/>
            <a:ahLst/>
            <a:rect l="0" t="0" r="r" b="b"/>
            <a:pathLst>
              <a:path w="1130" h="601">
                <a:moveTo>
                  <a:pt x="0" y="119"/>
                </a:moveTo>
                <a:lnTo>
                  <a:pt x="0" y="481"/>
                </a:lnTo>
                <a:lnTo>
                  <a:pt x="791" y="481"/>
                </a:lnTo>
                <a:lnTo>
                  <a:pt x="791" y="601"/>
                </a:lnTo>
                <a:lnTo>
                  <a:pt x="1130" y="300"/>
                </a:lnTo>
                <a:lnTo>
                  <a:pt x="791" y="0"/>
                </a:lnTo>
                <a:lnTo>
                  <a:pt x="791" y="119"/>
                </a:lnTo>
                <a:lnTo>
                  <a:pt x="0" y="119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900840" y="3271680"/>
            <a:ext cx="208440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4.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511280" y="227160"/>
            <a:ext cx="642456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0. 4/4ºÐ±â Á¡Æ÷º° ¸ÅÃâ¾×À» ±¸ÇÏ¶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64960" y="1204920"/>
            <a:ext cx="22334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Æ©´×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49440" y="1805040"/>
            <a:ext cx="7786800" cy="2799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B.BR_NAME, SUM(V.SUM_SALE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CUST_NO, SUM(SALE_AMT*UNIT_PRICE) AS SUM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FROM 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SALEDATE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|| ''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ETWEEN '19951001' AND '199512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CUST_NO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V,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CUSTOMER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BR_NO = A.BR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NO = V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BR_NAM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310440" y="3890880"/>
            <a:ext cx="2120760" cy="449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.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8400" y="5029200"/>
            <a:ext cx="5511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DATEÀÇ ¹üÀ§¿¡ µû¶ó ÀÎµ¦½º »ç¿ë ¿©ºÎ °á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98680" y="228600"/>
            <a:ext cx="84535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1. Æ¯Á¤ Ç°Á¾¿¡ ´ëÇÑ ÃÑ ÆÇ¸Å¼ö·®°ú ±Ý¾×±¸ÇÏ±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66760" y="1225440"/>
            <a:ext cx="949320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è°æ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ûÁî 10°ú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³»¿ë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5³âµµ 1/4ºÐ±â µ¿¾ÈÀÇ Ç°Á¾ÀÌ °¡±¸·ù¿Í ½ÄÇ°·ùÀÎ Á¦Ç°¿¡ ´ëÇ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Ñ ÆÇ¸Å¼ö·®°ú ÆÇ¸Å±Ý¾×À» ±¸ÇÏ½Ã¿À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66760" y="1066680"/>
            <a:ext cx="94932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96880" y="1609560"/>
            <a:ext cx="7410600" cy="2177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SALE_AMT)  AS  TOTAL_SALE_Q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SALE_AMT * A.UNIT_PRICE)  AS  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PRODUCT A, SAL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PROD_CLASS  IN  ('FURNITURE', 'FOOD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B.SALEDATE  BETWEEN  '19950101'  AND  '19950331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7800" y="3693960"/>
            <a:ext cx="1935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19200" y="4140360"/>
            <a:ext cx="8896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V.TOTAL_QTY)  AS TOTAL_SALE_Q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(V.TOTAL_QTY * A.UNIT_PRICE))  AS 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(SELECT  PROD_NO,  SUM(SALE_AMT) AS TOTAL_Q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WHERE  SALEDATE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GROUP BY  PROD_NO)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V,  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PROD_NO = V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PROD_CLASS  IN  ('FURNITURE' , 'FOODS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439040" y="6126120"/>
            <a:ext cx="2071800" cy="433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.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551720" y="3054240"/>
            <a:ext cx="2071800" cy="433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498680" y="228600"/>
            <a:ext cx="84535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1. Æ¯Á¤ Ç°Á¾¿¡ ´ëÇÑ ÃÑ ÆÇ¸Å¼ö·®°ú ±Ý¾×±¸ÇÏ±â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98680" y="228600"/>
            <a:ext cx="84535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2. ÇÑ¹øÀÌ¶óµµ ¸ÅÃâÀ» ÀÏÀ¸Å² °í°´À» ±¸ÇÏ¶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5200" y="1254240"/>
            <a:ext cx="949320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è°æ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ûÁî 10°ú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³»¿ë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5³âµµ ÇÑ¹øÀÌ¶óµµ ¸ÅÃâÀ» ÀÏÀ¸Å² °í°´¸í°ú ±× °í°´ÀÌ ¼ÓÇÑ Á¡Æ÷¸í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±¸ÇÏ¶ó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4920" y="3022560"/>
            <a:ext cx="94932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65200" y="3610080"/>
            <a:ext cx="9131400" cy="13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DISTINCT  A.CUST_NAME,  B.B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 CUSTOMER  A,  BRANCH  B,  SALE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 A.BR_NO = B.BR_NO   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C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C.SALEDATE  LIKE  '1995%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00960" y="4414680"/>
            <a:ext cx="2193840" cy="512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98680" y="228600"/>
            <a:ext cx="84535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2. ÇÑ¹øÀÌ¶óµµ ¸ÅÃâÀ» ÀÏÀ¸Å² °í°´À»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52360" y="1368360"/>
            <a:ext cx="2325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69880" y="1979640"/>
            <a:ext cx="9101160" cy="1573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B.B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 CUSTOMER A, BRAN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 A.BR_NO = B.BR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IN (SELECT CUST_NO FROM  SA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SALEDATE LIKE '1995%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7280" y="3781440"/>
            <a:ext cx="2717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´õ 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39640" y="4444920"/>
            <a:ext cx="9207360" cy="1866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B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 CUSTOMER  A,  BRAN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  (SELECT 'X'  FROM  SALE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 A.CUST_NO = C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 SALEDATE  LIKE '1995%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BR_NO = B.BR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39200" y="5856120"/>
            <a:ext cx="2100240" cy="439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.3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7566120" y="3125880"/>
            <a:ext cx="2100240" cy="439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.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79600" y="255600"/>
            <a:ext cx="718668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3. ¸ÅÃâ¾× 20,000 ÀÌÇÏ³ª ¾ø´Â °í°´ »èÁ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54160" y="1193760"/>
            <a:ext cx="947592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-- DELETE FROM CUSTOM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CUST_NO) FROM CUSTOMER A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/*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»èÁ¦ ½Ã¿¡´Â ÀÌ ÁÙÀ» À§ ÁÙ·Î ´ëÄ¡ÇÑ´Ù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I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LIKE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HAVING  SUM(SALE_AMT*UNIT_PRICE) &lt; 20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CUST_NO = A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SALEDATE LIKE '1995%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2360" y="1768320"/>
            <a:ext cx="9164520" cy="38386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485120" y="5130720"/>
            <a:ext cx="21938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54160" y="1193760"/>
            <a:ext cx="9475920" cy="54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´ä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-- DELETE FROM CUSTOM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COUNT(CUST_NO) FROM CUSTOMER A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/*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»èÁ¦½Ã¿¡´Â ÀÌ ÁÙÀ» À§ ÁÙ·Î ´ëÄ¡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A.CUST_NO IN (SELECT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LIKE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C.CUST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/*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&lt;-- ÀÎµ¦½º »ç¿ëÀ» À§ÇØ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UST_NO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/*      ¹Ýµå½Ã Ãß°¡      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HAVING  SUM(SALE_AMT*UNIT_PRICE) &lt; 20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NOT EXISTS (SELECT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CUST_NO = A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SALEDATE LIKE '1995%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79600" y="255600"/>
            <a:ext cx="718668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13. ¸ÅÃâ¾× 20,000 ÀÌÇÏ³ª ¾ø´Â °í°´ »èÁ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7960" y="1682640"/>
            <a:ext cx="9178920" cy="4227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494480" y="5448240"/>
            <a:ext cx="2193840" cy="4557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50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2. Á¤È®È÷ 10À§±îÁö¸¸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66760" y="1066680"/>
            <a:ext cx="8381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1 : »óÀ§ 10À§ ±îÁöÀÇ ·Î¿ì¸¦ Ãâ·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14440" y="3081240"/>
            <a:ext cx="5114880" cy="358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NUM     SAL  ENAME      JOB         EMP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-------  ---------- --------- 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    5000  KING       PRESIDENT    78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    3000  SCOTT      ANALYST      77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    3000  FORD       ANALYST      79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2975  JONES      MANAGER      75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5    2850  BLAKE      MANAGER      76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    2450  CLARK      MANAGER      77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1600  ALLEN      SALESMAN     74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1500  TURNER     SALESMAN     78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    1300  MILLER     CLERK        79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1250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ARD       SALESMAN     75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4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1250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ARTIN     SALESMAN     76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4520" y="1550880"/>
            <a:ext cx="7985160" cy="136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ROWNUM, SAL,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 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10 &gt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 SELECT COUNT(*) FROM EMP E2  WHERE E2.SAL &gt; E1.SA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SAL DES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04760" y="3532320"/>
            <a:ext cx="388800" cy="3033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38480" y="6407280"/>
            <a:ext cx="31352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øÀ§ Ç¥½Ã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¾Èµ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71880" y="6319800"/>
            <a:ext cx="0" cy="271440"/>
          </a:xfrm>
          <a:prstGeom prst="line">
            <a:avLst/>
          </a:prstGeom>
          <a:ln w="7632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785960" y="1427040"/>
            <a:ext cx="7048440" cy="2482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UNT(A.CUST_NO)  C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 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SELECT CUST_NO, SUM(SALE_AMT*UNIT_PRICE) SUM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|| '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LIKE '1995%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BY  CUST_NO)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A.CUST_NO = B.CU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 B.SUMSALE &lt; 2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 B.SUMSALE IS NULL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4000" y="255600"/>
            <a:ext cx="718668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800000"/>
                </a:solidFill>
                <a:latin typeface="Arial"/>
                <a:ea typeface="Arial"/>
              </a:rPr>
              <a:t>ÄûÁî 13. ¸ÅÃâ¾× 20,000 ÀÌÇÏ³ª ¾ø´Â °í°´ »èÁ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06280" y="1003320"/>
            <a:ext cx="40338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3 (Æ©´× ÈÄ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016760" y="3327480"/>
            <a:ext cx="1824120" cy="438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766880" y="3762360"/>
            <a:ext cx="695952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DELETE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ROWI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A.ROW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CUSTOMER 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SELECT CUST_NO, SUM(SALE_AMT*UNIT_PRICE) SUM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|| '' LIKE '1995%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BY  CUST_NO)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CUST_NO = B.CU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 B.SUMSALE &lt; 2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R B.SUMSALE IS NULL 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92920" y="6164280"/>
            <a:ext cx="1824120" cy="438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3120" y="2203560"/>
            <a:ext cx="1441440" cy="587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ELECT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1680" y="4606920"/>
            <a:ext cx="1430280" cy="587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DELETE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4. °¡»êÁ¡°ú ½Å¿ë ÇÑµµ¸¦ Áõ°¡½ÃÄÑ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95200" y="1254240"/>
            <a:ext cx="949320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è°æ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ûÁî 10°ú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³»¿ë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5³âµµ ÇÏ¹Ý±â ÃÑ ¸ÅÃâ¾×ÀÌ 300,000 ÀÌ»óÀÎ °í°´¿¡ ´ëÇÏ¿© °¡»êÁ¡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¾× 100,000 ¿ø ´ç 1Á¡¾¿À» Áõ°¡½ÃÅ°°í ½Å¿ëÇÑµµ¸¦ 100,000 Áõ°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½ÃÅ°´Â SQLÀ» ÀÛ¼ºÇÏ¶ó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4. °¡»êÁ¡°ú ½Å¿ë ÇÑµµ¸¦ Áõ°¡½ÃÄÑ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66760" y="1197000"/>
            <a:ext cx="94932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1880" y="1808280"/>
            <a:ext cx="9259920" cy="46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CUSTOM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REDIT_LIMIT = CREDIT_LIMIT + 100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ONUS_POINT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ONUS_POINT + TRUNC( SUM(SALE_AMT*B.UNIT_PRICE) / 100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A, 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BETWEEN '19950701' AND '199512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NO = C.CUST_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CUST_NO I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CUS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A, 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BETWEEN '19950701' AND '199512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PROD_NO = B.PRO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NO = C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A.CUS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HAVING  SUM(A.SALE_AMT*B.UNIT_PRICE) &gt; 300000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361280" y="6070680"/>
            <a:ext cx="2192400" cy="4395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lapsed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1ºÐ 46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4. °¡»êÁ¡°ú ½Å¿ë ÇÑµµ¸¦ Áõ°¡½ÃÄÑ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2360" y="1009800"/>
            <a:ext cx="94932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PL/S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49600" y="949320"/>
            <a:ext cx="6727680" cy="64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PROCEDURE  PEX4_3 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NO  CHAR(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MOUNT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SOR  EX4_3  IS  SELECT CUST_NO FROM CUSTO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PEN EX4_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ETCH  EX4_3  INTO  CUSTN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IT WHEN  EX4_3%NOTFOU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UM(SALE_AMT*B.UNIT_PR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 A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ALE A, PRODUC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BETWEEN '19950701' AND '1995123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PROD_NO = B.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CUST_NO = CUSTN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F AMOUNT &gt; 300000 THE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PDATE 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REDIT_LIMIT = CREDIT_LIMIT + 100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ONUS_POINT = BONUS_POINT + TRUNC(AMOUNT/10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CUST_NO = CUSTN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EX4_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338880" y="5997600"/>
            <a:ext cx="2131920" cy="465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527120" y="243000"/>
            <a:ext cx="744840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ÄûÁî 15. ¸ÅÃâ¼øÀ§ 10À§±îÁöÀÇ ¸®½ºÆ®¸¦ 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06280" y="1162080"/>
            <a:ext cx="92361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³»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5³â 4/4ºÐ±â ¸ÅÃâ¼øÀ§ 10À§±îÁöÀÇ °í°´¸®½ºÆ®ÀÛ¼ºÇÏµÇ ¼øÀ§¿Í ¸ÅÃâ¾× Ç¥½ÃÇÏ°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Ì¶§ ÆÇ¸Å±¸ºÐÀÌ 'R'ÀÎ °í°´Àº ÆÇ¸Å±Ý¾×À» ¸ÕÀú 10% Áõ°¡½ÃÅ² ÈÄ °è»êÇÏ¶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90440" y="2600280"/>
            <a:ext cx="92422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øÀ§¸¦ Ç¥½ÃÇÏ´Â ¹®Á¦¿Í GROUP BY¸¦ ÀÌ¿ëÇÑ Á¤·ÄÀ» »ý°¢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511280" y="214200"/>
            <a:ext cx="744840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ÄûÁî 15. ¸ÅÃâ¼øÀ§ 10À§±îÁöÀÇ ¸®½ºÆ®¸¦ 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69720" y="1568520"/>
            <a:ext cx="932508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AS ORDER_SAL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CUST_NO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SUM_SALE_AM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S SUM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UST_NO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SUM_SALE_AM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S SUM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CUST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DECODE(SALE_CLASS, 'R', SALE_AMT*UNIT_PRICE*1.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_AMT*UNIT_PRIC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S SUM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SALEDATE BETWEEN '19951001' AND '199512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CUST_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-SUM_SALE_AMT, CUST_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= 1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6. ÀÏº° ÃÑ°è¹× Á¦Ç°º° ÃÑ°è¸¦ °°ÀÌ ±¸ÇÏ¶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95200" y="1254240"/>
            <a:ext cx="949320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è°æ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ûÁî 10°ú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³»¿ë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5³âµµ 3/4 ºÐ±â Á¦Ç°º° ¸ÅÃâ¾×À» ÀÏº° ÃÑ°è ¹× Á¦Ç°º° ÃÑ°è¸¦ ÇÏ³ªÀÇ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 ¹®À¸·Î °°ÀÌ ±¸ÇÏ¶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6. ÀÏº° ÃÑ°è¹× Á¦Ç°º° ÃÑ°è¸¦ °°ÀÌ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37960" y="1058760"/>
            <a:ext cx="94932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93640" y="1517760"/>
            <a:ext cx="915660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SALEDATE, V.PROD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V.PROD_NO, 'P00000', 'ÀÏº° ÃÑ°è', A.PROD_NAME) AS PROD_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.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RODUCT A,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SALE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P00000' AS PROD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&lt;--- ÀÏº° ÃÑ°è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SALE_AMT*UNIT_PRICE)  AS  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SALEDATE BETWEEN '19950701' AND '1995093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GROUP BY 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ALEDATE, PROD_NO,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&lt;--- ÀÏº°, Á¦Ç°º° ÃÑ°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SALE_AMT*UNIT_PRICE) AS 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 BETWEEN  '19950701' AND '1995093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GROUP BY  SALEDATE, PROD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PROD_NO = A.PROD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XXXXXX"/>
                <a:ea typeface="XXXXXX"/>
              </a:rPr>
              <a:t>&lt;--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'P00000' ¶§¹®¿¡ ¹Ýµå½Ã OUTER Á¶ÀÎÀ» »ç¿ëÇØ¾ß Ç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V.SALEDATE, V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419960" y="6170760"/>
            <a:ext cx="2039760" cy="46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8.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6. ÀÏº° ÃÑ°è¹× Á¦Ç°º° ÃÑ°è¸¦ °°ÀÌ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37960" y="1047600"/>
            <a:ext cx="94932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 : 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6560" y="2459160"/>
            <a:ext cx="913464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2.SALEDATE,   V2.PROD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DECODE(V2.PROD_NO, 'P00000', 'ÀÏº° ÃÑ°è', A.PROD_NAME) AS PROD_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2.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PRODUCT 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SALE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DECODE(REPLICA, '1', 'P00000', V1.PROD_NO)  AS PROD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TOTAL_SALE_AMT)  AS 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SELECT  SALEDATE, PROD_NO, SUM(SALE_AMT*UNIT_PR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AS TOTAL_SALE_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WHERE SALEDATE BETWEEN '19950701' AND '1995093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GROUP BY  SALEDATE,PROD_NO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V1, REPLIC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V1.SALE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REPLICA,'1','P00000',V1.PROD_NO)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V2.PROD_NO = A.PROD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7960" y="1538280"/>
            <a:ext cx="3897360" cy="939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REPLICA °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ÀÌ¸é ÀÏÀÚº° ÃÑ°è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ÀÌ¸é ÀÏÀÚº°,Á¦Ç°º° ÃÑ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81520" y="1244520"/>
            <a:ext cx="4859280" cy="915840"/>
          </a:xfrm>
          <a:prstGeom prst="rect">
            <a:avLst/>
          </a:prstGeom>
          <a:solidFill>
            <a:srgbClr val="d3e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TABLE REPLICA1  ( REPLICA   CHAR(1)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REPLICA1 VALUES('1')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REPLICA1 VALUES('2');COMMIT;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48680" y="6286680"/>
            <a:ext cx="2100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7. ÀÔ·Â ±¸ºÐ¿¡ µû¶ó ¼­·Î ´Ù¸¥ ÃÑ¸ÅÃâ¾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95200" y="1254240"/>
            <a:ext cx="9493200" cy="24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è°æ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ûÁî 10°ú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³»¿ë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5³âµµ Á¦Ç° ¹øÈ£°¡ P20081ÀÎ Á¦Ç°°ú µ¿ÀÏÇÑ Á¦Ç°µî±Þ¿¡ ´ëÇ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¾×À» ±¸ÇÏ´Âµ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Ô·Â ±¸ºÐÀÇ °ªÀÌ 1 ÀÌ¸é P20081¿¡ ´ëÇØ¼­¸¸ ±¸ÇÏ°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ÀÌ¸é ¸ðµç Á¦Ç°¿¡ ´ëÇØ¼­ ¸ÅÃâ¾×À» ±¸ÇÏ¶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2. Á¤È®È÷ 10À§±îÁö¸¸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2440" y="1492200"/>
            <a:ext cx="9182160" cy="1828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ROWNUM  AS RANK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SAL SAL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SAL SAL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10 &gt; ( SELECT COUNT(*) FROM EMP E2  WHERE E2.SAL &gt; E1.SA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-SAL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ENAME, JOB, EMPNO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60560" y="3433680"/>
            <a:ext cx="460224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ROWNUM    SAL  ENAME       JOB       EMP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------ -----  ---------- --------- ------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    5000  KING       PRESIDENT    78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2    3000  SCOTT      ANALYST      778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3    3000  FORD       ANALYST      790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4    2975  JONES      MANAGER      756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5    2850  BLAKE      MANAGER      769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6    2450  CLARK      MANAGER      778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7    1600  ALLEN      SALESMAN     749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8    1500  TURNER     SALESMAN     78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9    1300  MILLER     CLERK        793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    1250  WARD       SALESMAN     75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1    1250  MARTIN     SALESMAN     765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7200" y="1066680"/>
            <a:ext cx="8381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1 : ÇØ´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367080" y="6434280"/>
            <a:ext cx="0" cy="271440"/>
          </a:xfrm>
          <a:prstGeom prst="line">
            <a:avLst/>
          </a:prstGeom>
          <a:ln w="7632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498680" y="228600"/>
            <a:ext cx="8453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7. ÀÔ·Â ±¸ºÐ¿¡ µû¶ó ¼­·Î ´Ù¸¥ ÃÑ¸ÅÃâ¾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2360" y="1211400"/>
            <a:ext cx="94932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76360" y="1811160"/>
            <a:ext cx="8648640" cy="2736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SALE_AMT * B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 SALE A, 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 SALEDATE LIKE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 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 ('&amp;ÀÔ·Â±¸ºÐ', '1', B.PROD_NO, '2', 'P20081') = 'P2008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B.PROD_CLASS IN (SELECT PROD_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PROD_NO = 'P20081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494000" y="243000"/>
            <a:ext cx="8312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8. 1995³â ¸ÅÃâÀ» ÁÖ ´ÜÀ§·Î ±¸ºÐÇÏ¿©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98440" y="1239840"/>
            <a:ext cx="354492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5³â 1¿ù 1ÀÏÀÌ ¼ö¿äÀÏÀÌ¶ó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¡Á¤ÇÏ¸é, ¼ö¿äÀÏºÎÅÍ ±× ´ÙÀ½Á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È­¿äÀÏ±îÁö¸¦ 1ÁÖ·Î Ç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7880" y="3139920"/>
            <a:ext cx="7981920" cy="307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¸ÅÃâÀÏÀÚ,1,6)                        AS ÆÇ¸Å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TO_CHA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TO_DATE(¸ÅÃâÀÏÀÚ,'YYYYMMDD')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WW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 AS ÁÖÀÏ·Ã¹øÈ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¸ÅÃâ±¸ºÐ,'Çö±Ý',ÆÇ¸Å·®*´Ü°¡))    AS Çö±Ý¸ÅÃâ¾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¸ÅÃâ±¸ºÐ,'½Å¿ë',ÆÇ¸Å°¡*´Ü°¡))    AS ½Å¿ë¸ÅÃâ¾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ÆÇ¸Å·®*´Ü°¡)                            AS ÁÖº°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¸ÅÃâÀÏÀÚ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SUBSTR(¸ÅÃâÀÏÀÚ,1,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TO_CHA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TO_DATE(¸ÅÃâÀÏÀÚ,'YYYYMMDD')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WW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248000" y="1117440"/>
            <a:ext cx="5029200" cy="36005040"/>
            <a:chOff x="4248000" y="1117440"/>
            <a:chExt cx="5029200" cy="36005040"/>
          </a:xfrm>
        </p:grpSpPr>
        <p:sp>
          <p:nvSpPr>
            <p:cNvPr id="387" name=""/>
            <p:cNvSpPr txBox="1"/>
            <p:nvPr/>
          </p:nvSpPr>
          <p:spPr>
            <a:xfrm>
              <a:off x="4248000" y="1122480"/>
              <a:ext cx="5029200" cy="3600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¿ù     È­     ¼ö     ¸ñ     ±Ý     Åä     ÀÏ</a:t>
              </a:r>
              <a:r>
                <a:rPr b="1" lang="en-US" sz="1400" spc="-1" strike="noStrike">
                  <a:solidFill>
                    <a:srgbClr val="00cc99"/>
                  </a:solidFill>
                  <a:latin typeface="XXXXXX"/>
                  <a:ea typeface="XXXXXX"/>
                </a:rPr>
                <a:t>    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'WW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5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      </a:t>
              </a: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XXXXXX"/>
                  <a:ea typeface="XXXXXX"/>
                </a:rPr>
                <a:t>01/01  01/02  01/03  01/04  01/05 </a:t>
              </a:r>
              <a:r>
                <a:rPr b="1" lang="en-US" sz="1400" spc="-1" strike="noStrike">
                  <a:solidFill>
                    <a:srgbClr val="3333ff"/>
                  </a:solidFill>
                  <a:latin typeface="XXXXXX"/>
                  <a:ea typeface="XXXXXX"/>
                </a:rPr>
                <a:t> '01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 u="sng">
                  <a:solidFill>
                    <a:srgbClr val="3333ff"/>
                  </a:solidFill>
                  <a:uFillTx/>
                  <a:latin typeface="XXXXXX"/>
                  <a:ea typeface="XXXXXX"/>
                </a:rPr>
                <a:t>01/06  01/07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400" spc="-1" strike="noStrike" u="sng">
                  <a:solidFill>
                    <a:srgbClr val="009900"/>
                  </a:solidFill>
                  <a:uFillTx/>
                  <a:latin typeface="XXXXXX"/>
                  <a:ea typeface="XXXXXX"/>
                </a:rPr>
                <a:t>01/08  01/09  01/10  01/11  01/12 </a:t>
              </a:r>
              <a:r>
                <a:rPr b="1" lang="en-US" sz="14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 '0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 u="sng">
                  <a:solidFill>
                    <a:srgbClr val="009900"/>
                  </a:solidFill>
                  <a:uFillTx/>
                  <a:latin typeface="XXXXXX"/>
                  <a:ea typeface="XXXXXX"/>
                </a:rPr>
                <a:t>01/13  01/14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01/15  01/16  01/17  01/18  01/19   '03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......                        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2/22  12/23</a:t>
              </a:r>
              <a:r>
                <a:rPr b="1" lang="en-US" sz="1400" spc="-1" strike="noStrike">
                  <a:solidFill>
                    <a:srgbClr val="9900cc"/>
                  </a:solidFill>
                  <a:latin typeface="XXXXXX"/>
                  <a:ea typeface="XXXXXX"/>
                </a:rPr>
                <a:t>  </a:t>
              </a: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XXXXXX"/>
                  <a:ea typeface="XXXXXX"/>
                </a:rPr>
                <a:t>12/24  12/25  12/26  12/27  12/28 </a:t>
              </a:r>
              <a:r>
                <a:rPr b="1" lang="en-US" sz="1400" spc="-1" strike="noStrike">
                  <a:solidFill>
                    <a:srgbClr val="cc3300"/>
                  </a:solidFill>
                  <a:latin typeface="XXXXXX"/>
                  <a:ea typeface="XXXXXX"/>
                </a:rPr>
                <a:t> '5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XXXXXX"/>
                  <a:ea typeface="XXXXXX"/>
                </a:rPr>
                <a:t>12/29  12/30</a:t>
              </a:r>
              <a:r>
                <a:rPr b="1" lang="en-US" sz="1400" spc="-1" strike="noStrike">
                  <a:solidFill>
                    <a:srgbClr val="008080"/>
                  </a:solidFill>
                  <a:latin typeface="XXXXXX"/>
                  <a:ea typeface="XXXXXX"/>
                </a:rPr>
                <a:t>  </a:t>
              </a:r>
              <a:r>
                <a:rPr b="1" lang="en-US" sz="1400" spc="-1" strike="noStrike">
                  <a:solidFill>
                    <a:srgbClr val="660066"/>
                  </a:solidFill>
                  <a:latin typeface="XXXXXX"/>
                  <a:ea typeface="XXXXXX"/>
                </a:rPr>
                <a:t>12/31  </a:t>
              </a:r>
              <a:r>
                <a:rPr b="1" lang="en-US" sz="1400" spc="-1" strike="noStrike">
                  <a:solidFill>
                    <a:srgbClr val="660066"/>
                  </a:solidFill>
                  <a:latin typeface="XXXXXX"/>
                  <a:ea typeface="XXXXXX"/>
                </a:rPr>
                <a:t>                             </a:t>
              </a:r>
              <a:r>
                <a:rPr b="1" lang="en-US" sz="1400" spc="-1" strike="noStrike">
                  <a:solidFill>
                    <a:srgbClr val="660066"/>
                  </a:solidFill>
                  <a:latin typeface="XXXXXX"/>
                  <a:ea typeface="XXXXXX"/>
                </a:rPr>
                <a:t>'53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70320" y="1452600"/>
              <a:ext cx="498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734320" y="1117440"/>
              <a:ext cx="0" cy="205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494000" y="243000"/>
            <a:ext cx="74246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8. ³â°£ ¸ÅÃâÀ» ÁÖ ´ÜÀ§·Î ¸ÅÃâ ±¸ºÐÇÏ¶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41200" y="1033560"/>
            <a:ext cx="3751200" cy="20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5³â 1¿ù 1ÀÏÀÌ ¼ö¿äÀÏÀÌ¶ó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¡Á¤ÇÏ¸é, 1995³â 1¿ù 1ÀÏ(¼ö)ºÎÅ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¿ù 5ÀÏ(ÀÏ)±îÁö¸¦ Ã¹ ÁÖ·Î º¸°í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µÑÂ° ÁÖºÎÅÍ´Â ¿ù¿äÀÏºÎÅ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Ï¿äÀÏ±îÁö¸¦ 1ÁÖ·Î °è»êÇ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69880" y="3114720"/>
            <a:ext cx="7961400" cy="334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¸ÅÃâÀÏÀÚ,1,6)                        AS ÆÇ¸Å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TO_CHA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TO_DATE(¸ÅÃâÀÏÀÚ,'YYYYMMDD')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IW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 AS ÁÖÀÏ·Ã¹øÈ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¸ÅÃâ±¸ºÐ,'Çö±Ý',ÆÇ¸Å·®*´Ü°¡))    AS Çö±Ý¸ÅÃâ¾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¸ÅÃâ±¸ºÐ,'½Å¿ë',ÆÇ¸Å°¡*´Ü°¡))    AS ½Å¿ë¸ÅÃâ¾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ÆÇ¸Å·®*´Ü°¡)                            AS ÁÖº°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¸ÅÃâÀÏÀÚ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SUBSTR(¸ÅÃâÀÏÀÚ,1,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TO_CHA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TO_DATE(¸ÅÃâÀÏÀÚ,'YYYYMMDD')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IW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248000" y="1054080"/>
            <a:ext cx="5029200" cy="36004680"/>
            <a:chOff x="4248000" y="1054080"/>
            <a:chExt cx="5029200" cy="36004680"/>
          </a:xfrm>
        </p:grpSpPr>
        <p:sp>
          <p:nvSpPr>
            <p:cNvPr id="394" name=""/>
            <p:cNvSpPr txBox="1"/>
            <p:nvPr/>
          </p:nvSpPr>
          <p:spPr>
            <a:xfrm>
              <a:off x="4248000" y="1058760"/>
              <a:ext cx="5029200" cy="3600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¿ù     È­     ¼ö     ¸ñ     ±Ý     Åä     ÀÏ</a:t>
              </a:r>
              <a:r>
                <a:rPr b="1" lang="en-US" sz="1400" spc="-1" strike="noStrike">
                  <a:solidFill>
                    <a:srgbClr val="00cc99"/>
                  </a:solidFill>
                  <a:latin typeface="XXXXXX"/>
                  <a:ea typeface="XXXXXX"/>
                </a:rPr>
                <a:t>    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'IW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5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      </a:t>
              </a:r>
              <a:r>
                <a:rPr b="1" lang="en-US" sz="1400" spc="-1" strike="noStrike">
                  <a:solidFill>
                    <a:srgbClr val="3333ff"/>
                  </a:solidFill>
                  <a:latin typeface="XXXXXX"/>
                  <a:ea typeface="XXXXXX"/>
                </a:rPr>
                <a:t>01/01  01/02  01/03  01/04  01/05   '01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01/06  01/07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400" spc="-1" strike="noStrike">
                  <a:solidFill>
                    <a:srgbClr val="009900"/>
                  </a:solidFill>
                  <a:latin typeface="XXXXXX"/>
                  <a:ea typeface="XXXXXX"/>
                </a:rPr>
                <a:t>01/08  01/09  01/10  01/11  01/12   '0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01/13  01/14  01/15  01/16  01/17  01/18  01/19   '03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......                        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cc3300"/>
                  </a:solidFill>
                  <a:latin typeface="XXXXXX"/>
                  <a:ea typeface="XXXXXX"/>
                </a:rPr>
                <a:t>12/22  12/23  12/24  12/25  12/26  12/27  12/28   '5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spcBef>
                  <a:spcPts val="118587"/>
                </a:spcBef>
              </a:pPr>
              <a:r>
                <a:rPr b="1" lang="en-US" sz="1400" spc="-1" strike="noStrike">
                  <a:solidFill>
                    <a:srgbClr val="660066"/>
                  </a:solidFill>
                  <a:latin typeface="XXXXXX"/>
                  <a:ea typeface="XXXXXX"/>
                </a:rPr>
                <a:t>12/29  12/30  12/31  </a:t>
              </a:r>
              <a:r>
                <a:rPr b="1" lang="en-US" sz="1400" spc="-1" strike="noStrike">
                  <a:solidFill>
                    <a:srgbClr val="660066"/>
                  </a:solidFill>
                  <a:latin typeface="XXXXXX"/>
                  <a:ea typeface="XXXXXX"/>
                </a:rPr>
                <a:t>                             </a:t>
              </a:r>
              <a:r>
                <a:rPr b="1" lang="en-US" sz="1400" spc="-1" strike="noStrike">
                  <a:solidFill>
                    <a:srgbClr val="660066"/>
                  </a:solidFill>
                  <a:latin typeface="XXXXXX"/>
                  <a:ea typeface="XXXXXX"/>
                </a:rPr>
                <a:t> ?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70320" y="1389240"/>
              <a:ext cx="498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34320" y="1054080"/>
              <a:ext cx="0" cy="205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494000" y="243000"/>
            <a:ext cx="74246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8. ³â°£ ¸ÅÃâÀ» ÁÖ ´ÜÀ§·Î ¸ÅÃâ ±¸ºÐÇÏ¶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54160" y="1193760"/>
            <a:ext cx="947592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ÀÇ ¹®Á¦Á¡ : 12¿ù ¸¶Áö¸· ÁÖ¿¡¼­ 53¹øÂ° ÁÖ°¡ ³ªÅ¸³ªÁö ¾ÊÀ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15800" y="4991040"/>
            <a:ext cx="8891640" cy="13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* ÁÖ ÀÏ·Ã¹øÈ£·Î GROUP BY ÇÏ¸é ¸¶Áö¸· ÁÖ ÀÏ·Ã¹øÈ£°ªÀÌ '01'·Î ³ª¿À¹Ç·Î Ã¹Â°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01'¿¡ ÇÕÃÄÁ®¼­ Æ²¸°°ªÀÌ ³ª¿È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* ¸¸¾à ¿ùº°·Î GROUP BY ÇÏ¸é ÁÖ ÀÏ·Ã¹øÈ£´Â Æ²¸®°Ô ³ª¿ÀÁö¸¸ ±Ý¾×Àº Æ²¸®Áö ¾ÊÀ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89000" y="2071800"/>
            <a:ext cx="5079960" cy="3600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¿ù     È­     ¼ö     ¸ñ     ±Ý     Åä     ÀÏ</a:t>
            </a:r>
            <a:r>
              <a:rPr b="1" lang="en-US" sz="1400" spc="-1" strike="noStrike">
                <a:solidFill>
                  <a:srgbClr val="00cc99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IW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400" spc="-1" strike="noStrike">
                <a:solidFill>
                  <a:srgbClr val="3333ff"/>
                </a:solidFill>
                <a:latin typeface="XXXXXX"/>
                <a:ea typeface="XXXXXX"/>
              </a:rPr>
              <a:t>01/01  01/02  01/03  01/04  01/05   '0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01/06  01/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01/08  01/09  01/10  01/11  01/12   '02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1/13  01/14  01/15  01/16  01/17  01/18  01/19   '0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                 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cc3300"/>
                </a:solidFill>
                <a:latin typeface="XXXXXX"/>
                <a:ea typeface="XXXXXX"/>
              </a:rPr>
              <a:t>12/22  12/23  12/24  12/25  12/26  12/27  12/28   '52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660066"/>
                </a:solidFill>
                <a:latin typeface="XXXXXX"/>
                <a:ea typeface="XXXXXX"/>
              </a:rPr>
              <a:t>12/29  12/30  12/31  </a:t>
            </a:r>
            <a:r>
              <a:rPr b="1" lang="en-US" sz="1400" spc="-1" strike="noStrike">
                <a:solidFill>
                  <a:srgbClr val="660066"/>
                </a:solidFill>
                <a:latin typeface="XXXXXX"/>
                <a:ea typeface="XXXXXX"/>
              </a:rPr>
              <a:t>96/1/1 96/1/2 96/1/3 96/1/4</a:t>
            </a:r>
            <a:r>
              <a:rPr b="1" lang="en-US" sz="1400" spc="-1" strike="noStrike">
                <a:solidFill>
                  <a:srgbClr val="cc33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'0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79640" y="2401920"/>
            <a:ext cx="506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75320" y="2066760"/>
            <a:ext cx="0" cy="2103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68880" y="2552760"/>
            <a:ext cx="681480" cy="1452960"/>
          </a:xfrm>
          <a:custGeom>
            <a:avLst/>
            <a:gdLst/>
            <a:ahLst/>
            <a:rect l="0" t="0" r="r" b="b"/>
            <a:pathLst>
              <a:path fill="none" w="1893" h="4036">
                <a:moveTo>
                  <a:pt x="0" y="4036"/>
                </a:moveTo>
                <a:lnTo>
                  <a:pt x="0" y="4036"/>
                </a:lnTo>
                <a:cubicBezTo>
                  <a:pt x="332" y="4036"/>
                  <a:pt x="659" y="3943"/>
                  <a:pt x="947" y="3766"/>
                </a:cubicBezTo>
                <a:cubicBezTo>
                  <a:pt x="1234" y="3589"/>
                  <a:pt x="1473" y="3334"/>
                  <a:pt x="1639" y="3027"/>
                </a:cubicBezTo>
                <a:cubicBezTo>
                  <a:pt x="1806" y="2720"/>
                  <a:pt x="1893" y="2372"/>
                  <a:pt x="1893" y="2018"/>
                </a:cubicBezTo>
                <a:cubicBezTo>
                  <a:pt x="1893" y="1664"/>
                  <a:pt x="1806" y="1316"/>
                  <a:pt x="1639" y="1009"/>
                </a:cubicBezTo>
                <a:cubicBezTo>
                  <a:pt x="1473" y="702"/>
                  <a:pt x="1234" y="447"/>
                  <a:pt x="946" y="270"/>
                </a:cubicBezTo>
                <a:cubicBezTo>
                  <a:pt x="659" y="93"/>
                  <a:pt x="332" y="0"/>
                  <a:pt x="0" y="0"/>
                </a:cubicBezTo>
              </a:path>
            </a:pathLst>
          </a:custGeom>
          <a:ln w="25560">
            <a:solidFill>
              <a:srgbClr val="ff33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1440" y="4060800"/>
            <a:ext cx="2048040" cy="49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53'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Ì ¾Æ´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508040" y="243000"/>
            <a:ext cx="74246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18. ³â°£ ¸ÅÃâÀ» ÁÖ ´ÜÀ§·Î ¸ÅÃâ ±¸ºÐÇÏ¶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54160" y="1057320"/>
            <a:ext cx="9475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öÁ¤µÈ 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60360" y="1617840"/>
            <a:ext cx="9394920" cy="5130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BSTR(¸ÅÃâÀÏÀÚ,1,6)                                  AS ÆÇ¸Å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DECODE(SUBSTR(¸ÅÃâÀÏÀÚ,1,6), '199512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DECODE(TO_CHAR( TO_DATE(¸ÅÃâÀÏÀÚ,'YYYYMMDD'), 'IW'),'01','53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TO_CHAR( TO_DATE(¸ÅÃâÀÏÀÚ,'YYYYMMDD'), 'IW'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TO_CHAR( TO_DATE(¸ÅÃâÀÏÀÚ,'YYYYMMDD'), 'IW')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S ÁÖÀÏ·Ã¹øÈ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¸ÅÃâ±¸ºÐ,'Çö±Ý',ÆÇ¸Å·®*´Ü°¡))              AS Çö±Ý¸ÅÃâ¾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¸ÅÃâ±¸ºÐ,'½Å¿ë',ÆÇ¸Å°¡*´Ü°¡))              AS ½Å¿ë¸ÅÃâ¾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ÆÇ¸Å·®*´Ü°¡)                                      AS ÁÖº°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¸ÅÃ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¸ÅÃâÀÏÀÚ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SUBSTR(¸ÅÃâÀÏÀÚ,1,6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DECODE(SUBSTR(¸ÅÃâÀÏÀÚ,1,6), '199512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DECODE(TO_CHAR( TO_DATE(¸ÅÃâÀÏÀÚ,'YYYYMMDD'), 'IW'),'01','53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TO_CHAR( TO_DATE(¸ÅÃâÀÏÀÚ,'YYYYMMDD'), 'IW'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TO_CHAR( TO_DATE(¸ÅÃâÀÏÀÚ,'YYYYMMDD'), 'IW')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2. Á¤È®È÷ 10À§±îÁö¸¸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2080" y="1079640"/>
            <a:ext cx="45068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 : Á¤È®È÷ 10¹øÂ° ±îÁö¸¸ Ãâ·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8840" y="3962520"/>
            <a:ext cx="53881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¶Ç´Ù¸¥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63480" y="1639800"/>
            <a:ext cx="8793000" cy="2231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7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ROWNUM  AS RANK,  -SAL SAL,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 SELECT  -SAL SAL,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10 &gt; (SELECT COUNT(*) FROM EMP E2 WHERE E2.SAL &gt; E1.S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-SAL, ENAME, JOB, EMPN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ROWNUM &lt;= 10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6200" y="4527720"/>
            <a:ext cx="5357880" cy="229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ROWNUM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SAL SAL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SAL SAL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ENAME, JOB, EMP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-SAL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ENAME, JOB, EMP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ROWNUM &lt;= 10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3. °ø¼öº° ºñ¿ë Áý°è¸¦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6680" y="1644480"/>
            <a:ext cx="4611600" cy="4656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48120" y="3057480"/>
            <a:ext cx="3613320" cy="267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883040" y="1892160"/>
            <a:ext cx="4680000" cy="11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¾Æ·¡ Ç¥¿Í °°ÀÌ ¸ðµç °ø¼öÀÇ Á¾·ù¸¦ ±¸ÇÏ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±× °ø¼öº°·Î µé¾î°£ ºñ¿ëÀÇ ÇÕ°è¸¦ ±¸ÇÏ¶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6920" y="3716280"/>
            <a:ext cx="424080" cy="756000"/>
          </a:xfrm>
          <a:custGeom>
            <a:avLst/>
            <a:gdLst/>
            <a:ahLst/>
            <a:rect l="0" t="0" r="r" b="b"/>
            <a:pathLst>
              <a:path w="1178" h="2100">
                <a:moveTo>
                  <a:pt x="0" y="419"/>
                </a:moveTo>
                <a:lnTo>
                  <a:pt x="0" y="1680"/>
                </a:lnTo>
                <a:lnTo>
                  <a:pt x="825" y="1680"/>
                </a:lnTo>
                <a:lnTo>
                  <a:pt x="825" y="2100"/>
                </a:lnTo>
                <a:lnTo>
                  <a:pt x="1178" y="1049"/>
                </a:lnTo>
                <a:lnTo>
                  <a:pt x="825" y="0"/>
                </a:lnTo>
                <a:lnTo>
                  <a:pt x="825" y="419"/>
                </a:lnTo>
                <a:lnTo>
                  <a:pt x="0" y="419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05520" y="5537160"/>
            <a:ext cx="207972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 °ø¼ö = ÀÎ¿ø * ½Ã°£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98680" y="228600"/>
            <a:ext cx="8366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3. °ø¼öº° ºñ¿ë Áý°è¸¦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1770120"/>
            <a:ext cx="8381880" cy="1689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½Ã°£ * ÀÎ¿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"°ø¼ö", SUM(ºñ¿ë) "±Ý¾×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¹ß»ýÀÏ LIKE '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½Ã°£ * ÀÎ¿ø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520" y="1154160"/>
            <a:ext cx="4680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´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98680" y="228600"/>
            <a:ext cx="8734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ÄûÁî 4.  Á¦Ç°º° Áý°è¿Í µî±Þº° Áý°è¸¦ °°ÀÌ ±¸ÇÏ¶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6172200" cy="4313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632640" y="2314440"/>
            <a:ext cx="2709720" cy="2542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°¸í    ¼ö·®   ¸ÅÃâ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 ---- 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HP         8    6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530G      4   4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210K      5   7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530C     10   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±âÅ¸      35    6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510240" y="1765440"/>
            <a:ext cx="21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64200" y="3144960"/>
            <a:ext cx="424080" cy="756000"/>
          </a:xfrm>
          <a:custGeom>
            <a:avLst/>
            <a:gdLst/>
            <a:ahLst/>
            <a:rect l="0" t="0" r="r" b="b"/>
            <a:pathLst>
              <a:path w="1178" h="2100">
                <a:moveTo>
                  <a:pt x="0" y="419"/>
                </a:moveTo>
                <a:lnTo>
                  <a:pt x="0" y="1680"/>
                </a:lnTo>
                <a:lnTo>
                  <a:pt x="825" y="1680"/>
                </a:lnTo>
                <a:lnTo>
                  <a:pt x="825" y="2100"/>
                </a:lnTo>
                <a:lnTo>
                  <a:pt x="1178" y="1049"/>
                </a:lnTo>
                <a:lnTo>
                  <a:pt x="825" y="0"/>
                </a:lnTo>
                <a:lnTo>
                  <a:pt x="825" y="419"/>
                </a:lnTo>
                <a:lnTo>
                  <a:pt x="0" y="419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